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4A9F-5CFC-4180-8EB2-AE37B5B1D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3A19-B619-4A3E-8584-95B20D481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29B7-4A5A-4E3E-9DBE-B1BB0B7D1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526-F391-483D-9F94-B912E99C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3E3-C1E0-42C5-BD5B-D8334D1D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C6A-7502-44C6-82C6-C93979B9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F40-FE02-4CC1-9222-2B566F3E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8D9A-9AD5-4826-A043-987BDEAB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DA64-88B7-4058-8DEB-340E0193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723D-6D90-45E2-A4F1-EB6BC8E5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441E-48BA-453F-91BC-94FD2545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42EB-9643-40B2-A63C-F7B58592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0124-4928-46FC-BE58-49B7FC0C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55E2-F0F3-46C5-9B52-059651DE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678-A11C-4D0D-8E3D-1D3C9B32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FD58-5E08-4FBD-9D63-FAEF5503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B577-48BC-46ED-9CDE-654140E2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405F-0C14-4A1E-A68B-9A06FC1A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1DE6-957F-412B-8921-3621E060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3E6F-B4BF-4B46-9692-36200066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FBD-4476-4BE0-BA14-071715BB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431-68DA-461B-881F-4E97E709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A7B-0F05-44A9-AB17-9B389A06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1EA-E249-4F82-9A2A-BD924D72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03D-3759-4271-AF7F-DB2EA754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8D54-E522-4141-BA65-D604C390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9D9-C735-4D55-8CF6-640DA5FB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04A0-36DD-40AD-905A-7E947CA07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7D77-CD80-4507-B65B-959E6F401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066680" y="380880"/>
            <a:ext cx="1714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1981080" y="1828800"/>
            <a:ext cx="6400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ythagorea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048120" y="4343400"/>
            <a:ext cx="4572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ore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09480" y="4316400"/>
            <a:ext cx="18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49120" y="489276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>
            <a:off x="609480" y="5943600"/>
            <a:ext cx="2433600" cy="144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530000" y="6014880"/>
            <a:ext cx="256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1"/>
          <p:cNvSpPr/>
          <p:nvPr/>
        </p:nvSpPr>
        <p:spPr>
          <a:xfrm flipH="1" flipV="1">
            <a:off x="609480" y="4343400"/>
            <a:ext cx="24336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890360" y="451800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609480" y="5611680"/>
            <a:ext cx="331920" cy="18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941400" y="5611680"/>
            <a:ext cx="1440" cy="33192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4572000" y="457200"/>
                <a:ext cx="368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4800600" y="458460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Text Box 3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you get the same number you would get by squaring the other si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4800600" y="457200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2" name="Group 5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83" name="Line 6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9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1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AutoShape 14"/>
          <p:cNvSpPr/>
          <p:nvPr/>
        </p:nvSpPr>
        <p:spPr>
          <a:xfrm rot="10800000">
            <a:off x="3352680" y="358092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that correc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971800" y="236232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4" name="Text Box 15"/>
          <p:cNvSpPr/>
          <p:nvPr/>
        </p:nvSpPr>
        <p:spPr>
          <a:xfrm>
            <a:off x="5257800" y="20574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6"/>
              <p:cNvSpPr txBox="1"/>
              <p:nvPr/>
            </p:nvSpPr>
            <p:spPr>
              <a:xfrm>
                <a:off x="3390840" y="3898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17"/>
          <p:cNvSpPr/>
          <p:nvPr/>
        </p:nvSpPr>
        <p:spPr>
          <a:xfrm>
            <a:off x="5257800" y="33526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26"/>
          <p:cNvGrpSpPr/>
          <p:nvPr/>
        </p:nvGrpSpPr>
        <p:grpSpPr>
          <a:xfrm>
            <a:off x="803160" y="3978360"/>
            <a:ext cx="1984680" cy="2273400"/>
            <a:chOff x="803160" y="3978360"/>
            <a:chExt cx="1984680" cy="2273400"/>
          </a:xfrm>
        </p:grpSpPr>
        <p:grpSp>
          <p:nvGrpSpPr>
            <p:cNvPr id="199" name="Group 21"/>
            <p:cNvGrpSpPr/>
            <p:nvPr/>
          </p:nvGrpSpPr>
          <p:grpSpPr>
            <a:xfrm>
              <a:off x="803160" y="4034880"/>
              <a:ext cx="699120" cy="2216880"/>
              <a:chOff x="803160" y="4034880"/>
              <a:chExt cx="699120" cy="2216880"/>
            </a:xfrm>
          </p:grpSpPr>
          <p:sp>
            <p:nvSpPr>
              <p:cNvPr id="200" name="Line 4"/>
              <p:cNvSpPr/>
              <p:nvPr/>
            </p:nvSpPr>
            <p:spPr>
              <a:xfrm flipH="1">
                <a:off x="803160" y="4034880"/>
                <a:ext cx="699120" cy="2096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0"/>
              <p:cNvSpPr/>
              <p:nvPr/>
            </p:nvSpPr>
            <p:spPr>
              <a:xfrm>
                <a:off x="803160" y="6131160"/>
                <a:ext cx="361440" cy="120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22"/>
            <p:cNvGrpSpPr/>
            <p:nvPr/>
          </p:nvGrpSpPr>
          <p:grpSpPr>
            <a:xfrm>
              <a:off x="1555200" y="3978360"/>
              <a:ext cx="1232640" cy="2025000"/>
              <a:chOff x="1555200" y="3978360"/>
              <a:chExt cx="1232640" cy="2025000"/>
            </a:xfrm>
          </p:grpSpPr>
          <p:sp>
            <p:nvSpPr>
              <p:cNvPr id="203" name="Line 23"/>
              <p:cNvSpPr/>
              <p:nvPr/>
            </p:nvSpPr>
            <p:spPr>
              <a:xfrm>
                <a:off x="1555200" y="3978360"/>
                <a:ext cx="883440" cy="2025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 flipV="1">
                <a:off x="2438640" y="5851080"/>
                <a:ext cx="349200" cy="15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Group 48"/>
          <p:cNvGrpSpPr/>
          <p:nvPr/>
        </p:nvGrpSpPr>
        <p:grpSpPr>
          <a:xfrm>
            <a:off x="2076480" y="4039200"/>
            <a:ext cx="1990080" cy="2183760"/>
            <a:chOff x="2076480" y="4039200"/>
            <a:chExt cx="1990080" cy="2183760"/>
          </a:xfrm>
        </p:grpSpPr>
        <p:grpSp>
          <p:nvGrpSpPr>
            <p:cNvPr id="206" name="Group 28"/>
            <p:cNvGrpSpPr/>
            <p:nvPr/>
          </p:nvGrpSpPr>
          <p:grpSpPr>
            <a:xfrm>
              <a:off x="2076480" y="4080600"/>
              <a:ext cx="1212840" cy="2055960"/>
              <a:chOff x="2076480" y="4080600"/>
              <a:chExt cx="1212840" cy="2055960"/>
            </a:xfrm>
          </p:grpSpPr>
          <p:sp>
            <p:nvSpPr>
              <p:cNvPr id="207" name="Line 29"/>
              <p:cNvSpPr/>
              <p:nvPr/>
            </p:nvSpPr>
            <p:spPr>
              <a:xfrm flipH="1">
                <a:off x="2076480" y="4080600"/>
                <a:ext cx="1212840" cy="1846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0"/>
              <p:cNvSpPr/>
              <p:nvPr/>
            </p:nvSpPr>
            <p:spPr>
              <a:xfrm>
                <a:off x="2076480" y="5927400"/>
                <a:ext cx="318240" cy="209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31"/>
            <p:cNvGrpSpPr/>
            <p:nvPr/>
          </p:nvGrpSpPr>
          <p:grpSpPr>
            <a:xfrm>
              <a:off x="3354840" y="4039200"/>
              <a:ext cx="711720" cy="2183760"/>
              <a:chOff x="3354840" y="4039200"/>
              <a:chExt cx="711720" cy="2183760"/>
            </a:xfrm>
          </p:grpSpPr>
          <p:sp>
            <p:nvSpPr>
              <p:cNvPr id="210" name="Line 32"/>
              <p:cNvSpPr/>
              <p:nvPr/>
            </p:nvSpPr>
            <p:spPr>
              <a:xfrm>
                <a:off x="3354840" y="4039200"/>
                <a:ext cx="335160" cy="218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33"/>
              <p:cNvSpPr/>
              <p:nvPr/>
            </p:nvSpPr>
            <p:spPr>
              <a:xfrm flipV="1">
                <a:off x="3690000" y="6165360"/>
                <a:ext cx="376560" cy="57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Group 34"/>
          <p:cNvGrpSpPr/>
          <p:nvPr/>
        </p:nvGrpSpPr>
        <p:grpSpPr>
          <a:xfrm>
            <a:off x="3612600" y="3828600"/>
            <a:ext cx="1857960" cy="2300400"/>
            <a:chOff x="3612600" y="3828600"/>
            <a:chExt cx="1857960" cy="2300400"/>
          </a:xfrm>
        </p:grpSpPr>
        <p:grpSp>
          <p:nvGrpSpPr>
            <p:cNvPr id="213" name="Group 35"/>
            <p:cNvGrpSpPr/>
            <p:nvPr/>
          </p:nvGrpSpPr>
          <p:grpSpPr>
            <a:xfrm>
              <a:off x="3612600" y="3896640"/>
              <a:ext cx="379800" cy="2232360"/>
              <a:chOff x="3612600" y="3896640"/>
              <a:chExt cx="379800" cy="2232360"/>
            </a:xfrm>
          </p:grpSpPr>
          <p:sp>
            <p:nvSpPr>
              <p:cNvPr id="214" name="Line 36"/>
              <p:cNvSpPr/>
              <p:nvPr/>
            </p:nvSpPr>
            <p:spPr>
              <a:xfrm flipH="1">
                <a:off x="3612600" y="3896640"/>
                <a:ext cx="171360" cy="2202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37"/>
              <p:cNvSpPr/>
              <p:nvPr/>
            </p:nvSpPr>
            <p:spPr>
              <a:xfrm>
                <a:off x="3612600" y="6099480"/>
                <a:ext cx="379800" cy="29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38"/>
            <p:cNvGrpSpPr/>
            <p:nvPr/>
          </p:nvGrpSpPr>
          <p:grpSpPr>
            <a:xfrm>
              <a:off x="3821040" y="3828600"/>
              <a:ext cx="1649520" cy="1751040"/>
              <a:chOff x="3821040" y="3828600"/>
              <a:chExt cx="1649520" cy="1751040"/>
            </a:xfrm>
          </p:grpSpPr>
          <p:sp>
            <p:nvSpPr>
              <p:cNvPr id="217" name="Line 39"/>
              <p:cNvSpPr/>
              <p:nvPr/>
            </p:nvSpPr>
            <p:spPr>
              <a:xfrm>
                <a:off x="3821040" y="3828600"/>
                <a:ext cx="1347840" cy="1751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40"/>
              <p:cNvSpPr/>
              <p:nvPr/>
            </p:nvSpPr>
            <p:spPr>
              <a:xfrm flipV="1">
                <a:off x="5168880" y="5347440"/>
                <a:ext cx="301680" cy="232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41"/>
          <p:cNvGrpSpPr/>
          <p:nvPr/>
        </p:nvGrpSpPr>
        <p:grpSpPr>
          <a:xfrm>
            <a:off x="4994280" y="3580200"/>
            <a:ext cx="1995840" cy="2174400"/>
            <a:chOff x="4994280" y="3580200"/>
            <a:chExt cx="1995840" cy="2174400"/>
          </a:xfrm>
        </p:grpSpPr>
        <p:grpSp>
          <p:nvGrpSpPr>
            <p:cNvPr id="220" name="Group 42"/>
            <p:cNvGrpSpPr/>
            <p:nvPr/>
          </p:nvGrpSpPr>
          <p:grpSpPr>
            <a:xfrm>
              <a:off x="4994280" y="3623040"/>
              <a:ext cx="1163880" cy="2079000"/>
              <a:chOff x="4994280" y="3623040"/>
              <a:chExt cx="1163880" cy="2079000"/>
            </a:xfrm>
          </p:grpSpPr>
          <p:sp>
            <p:nvSpPr>
              <p:cNvPr id="221" name="Line 43"/>
              <p:cNvSpPr/>
              <p:nvPr/>
            </p:nvSpPr>
            <p:spPr>
              <a:xfrm flipH="1">
                <a:off x="4994280" y="3623040"/>
                <a:ext cx="1163880" cy="1878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44"/>
              <p:cNvSpPr/>
              <p:nvPr/>
            </p:nvSpPr>
            <p:spPr>
              <a:xfrm>
                <a:off x="4994280" y="5501160"/>
                <a:ext cx="324000" cy="20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45"/>
            <p:cNvGrpSpPr/>
            <p:nvPr/>
          </p:nvGrpSpPr>
          <p:grpSpPr>
            <a:xfrm>
              <a:off x="6222600" y="3580200"/>
              <a:ext cx="767520" cy="2174400"/>
              <a:chOff x="6222600" y="3580200"/>
              <a:chExt cx="767520" cy="2174400"/>
            </a:xfrm>
          </p:grpSpPr>
          <p:sp>
            <p:nvSpPr>
              <p:cNvPr id="224" name="Line 46"/>
              <p:cNvSpPr/>
              <p:nvPr/>
            </p:nvSpPr>
            <p:spPr>
              <a:xfrm>
                <a:off x="6222600" y="3580200"/>
                <a:ext cx="392760" cy="217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7"/>
              <p:cNvSpPr/>
              <p:nvPr/>
            </p:nvSpPr>
            <p:spPr>
              <a:xfrm flipV="1">
                <a:off x="6615360" y="5686920"/>
                <a:ext cx="374760" cy="67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Group 49"/>
          <p:cNvGrpSpPr/>
          <p:nvPr/>
        </p:nvGrpSpPr>
        <p:grpSpPr>
          <a:xfrm>
            <a:off x="3799800" y="4263840"/>
            <a:ext cx="2223360" cy="1975320"/>
            <a:chOff x="3799800" y="4263840"/>
            <a:chExt cx="2223360" cy="1975320"/>
          </a:xfrm>
        </p:grpSpPr>
        <p:grpSp>
          <p:nvGrpSpPr>
            <p:cNvPr id="227" name="Group 50"/>
            <p:cNvGrpSpPr/>
            <p:nvPr/>
          </p:nvGrpSpPr>
          <p:grpSpPr>
            <a:xfrm>
              <a:off x="3808080" y="4340520"/>
              <a:ext cx="1457640" cy="1898640"/>
              <a:chOff x="3808080" y="4340520"/>
              <a:chExt cx="1457640" cy="1898640"/>
            </a:xfrm>
          </p:grpSpPr>
          <p:sp>
            <p:nvSpPr>
              <p:cNvPr id="228" name="Line 51"/>
              <p:cNvSpPr/>
              <p:nvPr/>
            </p:nvSpPr>
            <p:spPr>
              <a:xfrm>
                <a:off x="3808080" y="4340520"/>
                <a:ext cx="1130400" cy="18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52"/>
              <p:cNvSpPr/>
              <p:nvPr/>
            </p:nvSpPr>
            <p:spPr>
              <a:xfrm flipV="1">
                <a:off x="4938480" y="6044400"/>
                <a:ext cx="327240" cy="19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53"/>
            <p:cNvGrpSpPr/>
            <p:nvPr/>
          </p:nvGrpSpPr>
          <p:grpSpPr>
            <a:xfrm>
              <a:off x="3799800" y="4263840"/>
              <a:ext cx="2223360" cy="653760"/>
              <a:chOff x="3799800" y="4263840"/>
              <a:chExt cx="2223360" cy="653760"/>
            </a:xfrm>
          </p:grpSpPr>
          <p:sp>
            <p:nvSpPr>
              <p:cNvPr id="231" name="Line 54"/>
              <p:cNvSpPr/>
              <p:nvPr/>
            </p:nvSpPr>
            <p:spPr>
              <a:xfrm>
                <a:off x="3799800" y="4263840"/>
                <a:ext cx="2110680" cy="65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55"/>
              <p:cNvSpPr/>
              <p:nvPr/>
            </p:nvSpPr>
            <p:spPr>
              <a:xfrm flipV="1">
                <a:off x="5910480" y="4553640"/>
                <a:ext cx="112680" cy="363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56"/>
          <p:cNvGrpSpPr/>
          <p:nvPr/>
        </p:nvGrpSpPr>
        <p:grpSpPr>
          <a:xfrm>
            <a:off x="3339000" y="4081680"/>
            <a:ext cx="2280960" cy="1797480"/>
            <a:chOff x="3339000" y="4081680"/>
            <a:chExt cx="2280960" cy="1797480"/>
          </a:xfrm>
        </p:grpSpPr>
        <p:grpSp>
          <p:nvGrpSpPr>
            <p:cNvPr id="234" name="Group 57"/>
            <p:cNvGrpSpPr/>
            <p:nvPr/>
          </p:nvGrpSpPr>
          <p:grpSpPr>
            <a:xfrm>
              <a:off x="3409200" y="5498280"/>
              <a:ext cx="2210760" cy="380880"/>
              <a:chOff x="3409200" y="5498280"/>
              <a:chExt cx="2210760" cy="380880"/>
            </a:xfrm>
          </p:grpSpPr>
          <p:sp>
            <p:nvSpPr>
              <p:cNvPr id="235" name="Line 58"/>
              <p:cNvSpPr/>
              <p:nvPr/>
            </p:nvSpPr>
            <p:spPr>
              <a:xfrm>
                <a:off x="3409200" y="5871240"/>
                <a:ext cx="2209680" cy="7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59"/>
              <p:cNvSpPr/>
              <p:nvPr/>
            </p:nvSpPr>
            <p:spPr>
              <a:xfrm flipV="1">
                <a:off x="5618880" y="5498280"/>
                <a:ext cx="1080" cy="38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60"/>
            <p:cNvGrpSpPr/>
            <p:nvPr/>
          </p:nvGrpSpPr>
          <p:grpSpPr>
            <a:xfrm>
              <a:off x="3339000" y="4081680"/>
              <a:ext cx="1646640" cy="1757160"/>
              <a:chOff x="3339000" y="4081680"/>
              <a:chExt cx="1646640" cy="1757160"/>
            </a:xfrm>
          </p:grpSpPr>
          <p:sp>
            <p:nvSpPr>
              <p:cNvPr id="238" name="Line 61"/>
              <p:cNvSpPr/>
              <p:nvPr/>
            </p:nvSpPr>
            <p:spPr>
              <a:xfrm flipV="1">
                <a:off x="3339000" y="4365720"/>
                <a:ext cx="1646640" cy="1473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62"/>
              <p:cNvSpPr/>
              <p:nvPr/>
            </p:nvSpPr>
            <p:spPr>
              <a:xfrm flipH="1" flipV="1">
                <a:off x="4731840" y="4081680"/>
                <a:ext cx="253800" cy="284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7" dur="1" fill="hold"/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32"/>
          <p:cNvGrpSpPr/>
          <p:nvPr/>
        </p:nvGrpSpPr>
        <p:grpSpPr>
          <a:xfrm>
            <a:off x="3417120" y="5490360"/>
            <a:ext cx="2211120" cy="380880"/>
            <a:chOff x="3417120" y="5490360"/>
            <a:chExt cx="2211120" cy="380880"/>
          </a:xfrm>
        </p:grpSpPr>
        <p:sp>
          <p:nvSpPr>
            <p:cNvPr id="241" name="Line 33"/>
            <p:cNvSpPr/>
            <p:nvPr/>
          </p:nvSpPr>
          <p:spPr>
            <a:xfrm>
              <a:off x="3417120" y="5863320"/>
              <a:ext cx="2209680" cy="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4"/>
            <p:cNvSpPr/>
            <p:nvPr/>
          </p:nvSpPr>
          <p:spPr>
            <a:xfrm flipV="1">
              <a:off x="5626800" y="5490360"/>
              <a:ext cx="144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2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3"/>
          <p:cNvGrpSpPr/>
          <p:nvPr/>
        </p:nvGrpSpPr>
        <p:grpSpPr>
          <a:xfrm>
            <a:off x="3858480" y="3566880"/>
            <a:ext cx="502560" cy="2238480"/>
            <a:chOff x="3858480" y="3566880"/>
            <a:chExt cx="502560" cy="2238480"/>
          </a:xfrm>
        </p:grpSpPr>
        <p:sp>
          <p:nvSpPr>
            <p:cNvPr id="245" name="Line 14"/>
            <p:cNvSpPr/>
            <p:nvPr/>
          </p:nvSpPr>
          <p:spPr>
            <a:xfrm flipV="1">
              <a:off x="3858480" y="3653640"/>
              <a:ext cx="502560" cy="2151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5"/>
            <p:cNvSpPr/>
            <p:nvPr/>
          </p:nvSpPr>
          <p:spPr>
            <a:xfrm flipH="1" flipV="1">
              <a:off x="3990240" y="3566880"/>
              <a:ext cx="370800" cy="86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16"/>
          <p:cNvGrpSpPr/>
          <p:nvPr/>
        </p:nvGrpSpPr>
        <p:grpSpPr>
          <a:xfrm>
            <a:off x="3280320" y="3834360"/>
            <a:ext cx="1288080" cy="1998000"/>
            <a:chOff x="3280320" y="3834360"/>
            <a:chExt cx="1288080" cy="1998000"/>
          </a:xfrm>
        </p:grpSpPr>
        <p:sp>
          <p:nvSpPr>
            <p:cNvPr id="248" name="Line 17"/>
            <p:cNvSpPr/>
            <p:nvPr/>
          </p:nvSpPr>
          <p:spPr>
            <a:xfrm flipH="1" flipV="1">
              <a:off x="3624840" y="3834360"/>
              <a:ext cx="943560" cy="199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 flipH="1">
              <a:off x="3280320" y="3834360"/>
              <a:ext cx="344520" cy="16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9"/>
          <p:cNvGrpSpPr/>
          <p:nvPr/>
        </p:nvGrpSpPr>
        <p:grpSpPr>
          <a:xfrm>
            <a:off x="4036680" y="3657240"/>
            <a:ext cx="380880" cy="2210400"/>
            <a:chOff x="4036680" y="3657240"/>
            <a:chExt cx="380880" cy="2210400"/>
          </a:xfrm>
        </p:grpSpPr>
        <p:sp>
          <p:nvSpPr>
            <p:cNvPr id="251" name="Line 20"/>
            <p:cNvSpPr/>
            <p:nvPr/>
          </p:nvSpPr>
          <p:spPr>
            <a:xfrm flipH="1">
              <a:off x="403668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403668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22"/>
          <p:cNvGrpSpPr/>
          <p:nvPr/>
        </p:nvGrpSpPr>
        <p:grpSpPr>
          <a:xfrm>
            <a:off x="3035160" y="4619880"/>
            <a:ext cx="2199600" cy="589680"/>
            <a:chOff x="3035160" y="4619880"/>
            <a:chExt cx="2199600" cy="589680"/>
          </a:xfrm>
        </p:grpSpPr>
        <p:sp>
          <p:nvSpPr>
            <p:cNvPr id="254" name="Line 23"/>
            <p:cNvSpPr/>
            <p:nvPr/>
          </p:nvSpPr>
          <p:spPr>
            <a:xfrm flipH="1">
              <a:off x="3035160" y="4619880"/>
              <a:ext cx="2199600" cy="210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>
              <a:off x="3035160" y="4830120"/>
              <a:ext cx="36000" cy="379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29"/>
          <p:cNvGrpSpPr/>
          <p:nvPr/>
        </p:nvGrpSpPr>
        <p:grpSpPr>
          <a:xfrm>
            <a:off x="3329280" y="4092120"/>
            <a:ext cx="1647000" cy="1756800"/>
            <a:chOff x="3329280" y="4092120"/>
            <a:chExt cx="1647000" cy="1756800"/>
          </a:xfrm>
        </p:grpSpPr>
        <p:sp>
          <p:nvSpPr>
            <p:cNvPr id="257" name="Line 30"/>
            <p:cNvSpPr/>
            <p:nvPr/>
          </p:nvSpPr>
          <p:spPr>
            <a:xfrm flipV="1">
              <a:off x="3329280" y="4375800"/>
              <a:ext cx="1647000" cy="1473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31"/>
            <p:cNvSpPr/>
            <p:nvPr/>
          </p:nvSpPr>
          <p:spPr>
            <a:xfrm flipH="1" flipV="1">
              <a:off x="4722480" y="4092120"/>
              <a:ext cx="253800" cy="283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5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60" name="Line 36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37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65" name="Line 7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68" name="Line 25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6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WordArt 27"/>
          <p:cNvSpPr txBox="1"/>
          <p:nvPr/>
        </p:nvSpPr>
        <p:spPr>
          <a:xfrm>
            <a:off x="5334120" y="2057400"/>
            <a:ext cx="103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gs.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09480" y="228600"/>
            <a:ext cx="8305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engths of the legs are usually cal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7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7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60948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side across from the right angl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8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8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733920" y="105876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called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18"/>
          <p:cNvSpPr txBox="1"/>
          <p:nvPr/>
        </p:nvSpPr>
        <p:spPr>
          <a:xfrm>
            <a:off x="2590920" y="2209680"/>
            <a:ext cx="5236920" cy="11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ypotenus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Line 19"/>
          <p:cNvSpPr/>
          <p:nvPr/>
        </p:nvSpPr>
        <p:spPr>
          <a:xfrm flipV="1">
            <a:off x="3505320" y="4800600"/>
            <a:ext cx="990360" cy="9907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457200" y="22860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the length of the hypotenuse                             is usually labe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98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01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relationship Pythagorus discovered is now called The Pythagorean Theorem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10" name="Line 14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6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13" name="Line 17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Text Box 19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1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685800" y="763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Pythagorean Theorem says, given the right triangle with legs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hypotenuse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22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25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agorean Theorem 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ontent Placeholder 2" descr=""/>
          <p:cNvPicPr/>
          <p:nvPr/>
        </p:nvPicPr>
        <p:blipFill>
          <a:blip r:embed="rId1"/>
          <a:stretch/>
        </p:blipFill>
        <p:spPr>
          <a:xfrm>
            <a:off x="530280" y="2335320"/>
            <a:ext cx="793116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1676520" y="9144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3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3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4"/>
              <p:cNvSpPr txBox="1"/>
              <p:nvPr/>
            </p:nvSpPr>
            <p:spPr>
              <a:xfrm>
                <a:off x="3200400" y="851040"/>
                <a:ext cx="3759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1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rectangle given its diagonal and si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29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46" name="Line 23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26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Group 30"/>
          <p:cNvGrpSpPr/>
          <p:nvPr/>
        </p:nvGrpSpPr>
        <p:grpSpPr>
          <a:xfrm>
            <a:off x="4356000" y="2633760"/>
            <a:ext cx="4100040" cy="1914120"/>
            <a:chOff x="4356000" y="2633760"/>
            <a:chExt cx="4100040" cy="1914120"/>
          </a:xfrm>
        </p:grpSpPr>
        <p:sp>
          <p:nvSpPr>
            <p:cNvPr id="351" name="Rectangle 25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8"/>
            <p:cNvSpPr/>
            <p:nvPr/>
          </p:nvSpPr>
          <p:spPr>
            <a:xfrm>
              <a:off x="8001000" y="4044960"/>
              <a:ext cx="455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Line 31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2"/>
          <p:cNvSpPr/>
          <p:nvPr/>
        </p:nvSpPr>
        <p:spPr>
          <a:xfrm>
            <a:off x="4529160" y="3581280"/>
            <a:ext cx="12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9"/>
          <p:cNvGrpSpPr/>
          <p:nvPr/>
        </p:nvGrpSpPr>
        <p:grpSpPr>
          <a:xfrm>
            <a:off x="1676520" y="3182760"/>
            <a:ext cx="6222960" cy="2227320"/>
            <a:chOff x="1676520" y="3182760"/>
            <a:chExt cx="6222960" cy="2227320"/>
          </a:xfrm>
        </p:grpSpPr>
        <p:grpSp>
          <p:nvGrpSpPr>
            <p:cNvPr id="356" name="Group 41"/>
            <p:cNvGrpSpPr/>
            <p:nvPr/>
          </p:nvGrpSpPr>
          <p:grpSpPr>
            <a:xfrm>
              <a:off x="1676520" y="3187440"/>
              <a:ext cx="6221160" cy="2222640"/>
              <a:chOff x="1676520" y="3187440"/>
              <a:chExt cx="6221160" cy="2222640"/>
            </a:xfrm>
          </p:grpSpPr>
          <p:sp>
            <p:nvSpPr>
              <p:cNvPr id="357" name="Line 11"/>
              <p:cNvSpPr/>
              <p:nvPr/>
            </p:nvSpPr>
            <p:spPr>
              <a:xfrm>
                <a:off x="1709640" y="3187440"/>
                <a:ext cx="6172200" cy="2210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Group 29"/>
              <p:cNvGrpSpPr/>
              <p:nvPr/>
            </p:nvGrpSpPr>
            <p:grpSpPr>
              <a:xfrm>
                <a:off x="1676520" y="3190680"/>
                <a:ext cx="6221160" cy="2219400"/>
                <a:chOff x="1676520" y="3190680"/>
                <a:chExt cx="6221160" cy="2219400"/>
              </a:xfrm>
            </p:grpSpPr>
            <p:sp>
              <p:nvSpPr>
                <p:cNvPr id="359" name="Line 30"/>
                <p:cNvSpPr/>
                <p:nvPr/>
              </p:nvSpPr>
              <p:spPr>
                <a:xfrm>
                  <a:off x="1676520" y="3190680"/>
                  <a:ext cx="1440" cy="22176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31"/>
                <p:cNvSpPr/>
                <p:nvPr/>
              </p:nvSpPr>
              <p:spPr>
                <a:xfrm>
                  <a:off x="1676520" y="5408280"/>
                  <a:ext cx="6221160" cy="1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" name="Line 45"/>
            <p:cNvSpPr/>
            <p:nvPr/>
          </p:nvSpPr>
          <p:spPr>
            <a:xfrm>
              <a:off x="1676520" y="3182760"/>
              <a:ext cx="622116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47"/>
            <p:cNvSpPr/>
            <p:nvPr/>
          </p:nvSpPr>
          <p:spPr>
            <a:xfrm flipV="1">
              <a:off x="7897680" y="3182760"/>
              <a:ext cx="180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Text Box 2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leg of the right triang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40"/>
          <p:cNvGrpSpPr/>
          <p:nvPr/>
        </p:nvGrpSpPr>
        <p:grpSpPr>
          <a:xfrm>
            <a:off x="4356000" y="2633760"/>
            <a:ext cx="4100400" cy="1914120"/>
            <a:chOff x="4356000" y="2633760"/>
            <a:chExt cx="4100400" cy="1914120"/>
          </a:xfrm>
        </p:grpSpPr>
        <p:sp>
          <p:nvSpPr>
            <p:cNvPr id="365" name="Rectangle 9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001360" y="4044960"/>
              <a:ext cx="455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12"/>
          <p:cNvSpPr/>
          <p:nvPr/>
        </p:nvSpPr>
        <p:spPr>
          <a:xfrm>
            <a:off x="4529160" y="3581280"/>
            <a:ext cx="118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457200" y="4084560"/>
            <a:ext cx="12193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b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3677760" y="5592600"/>
            <a:ext cx="1177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1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3843000" y="403848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16"/>
          <p:cNvGrpSpPr/>
          <p:nvPr/>
        </p:nvGrpSpPr>
        <p:grpSpPr>
          <a:xfrm>
            <a:off x="1681200" y="5078520"/>
            <a:ext cx="333360" cy="331560"/>
            <a:chOff x="1681200" y="5078520"/>
            <a:chExt cx="333360" cy="331560"/>
          </a:xfrm>
        </p:grpSpPr>
        <p:sp>
          <p:nvSpPr>
            <p:cNvPr id="372" name="Line 17"/>
            <p:cNvSpPr/>
            <p:nvPr/>
          </p:nvSpPr>
          <p:spPr>
            <a:xfrm>
              <a:off x="1681200" y="5078520"/>
              <a:ext cx="3319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8"/>
            <p:cNvSpPr/>
            <p:nvPr/>
          </p:nvSpPr>
          <p:spPr>
            <a:xfrm>
              <a:off x="2013120" y="5078520"/>
              <a:ext cx="1440" cy="331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4" name="Object 19"/>
              <p:cNvSpPr txBox="1"/>
              <p:nvPr/>
            </p:nvSpPr>
            <p:spPr>
              <a:xfrm>
                <a:off x="1962000" y="152280"/>
                <a:ext cx="45640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20"/>
              <p:cNvSpPr txBox="1"/>
              <p:nvPr/>
            </p:nvSpPr>
            <p:spPr>
              <a:xfrm>
                <a:off x="1847880" y="228600"/>
                <a:ext cx="4533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1"/>
              <p:cNvSpPr txBox="1"/>
              <p:nvPr/>
            </p:nvSpPr>
            <p:spPr>
              <a:xfrm>
                <a:off x="1709640" y="228600"/>
                <a:ext cx="4808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2"/>
              <p:cNvSpPr txBox="1"/>
              <p:nvPr/>
            </p:nvSpPr>
            <p:spPr>
              <a:xfrm>
                <a:off x="1371600" y="98280"/>
                <a:ext cx="6288120" cy="31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3"/>
              <p:cNvSpPr txBox="1"/>
              <p:nvPr/>
            </p:nvSpPr>
            <p:spPr>
              <a:xfrm>
                <a:off x="1623960" y="1600200"/>
                <a:ext cx="3403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38"/>
          <p:cNvGrpSpPr/>
          <p:nvPr/>
        </p:nvGrpSpPr>
        <p:grpSpPr>
          <a:xfrm>
            <a:off x="457200" y="3192480"/>
            <a:ext cx="7442280" cy="2903040"/>
            <a:chOff x="457200" y="3192480"/>
            <a:chExt cx="7442280" cy="2903040"/>
          </a:xfrm>
        </p:grpSpPr>
        <p:grpSp>
          <p:nvGrpSpPr>
            <p:cNvPr id="380" name="Group 24"/>
            <p:cNvGrpSpPr/>
            <p:nvPr/>
          </p:nvGrpSpPr>
          <p:grpSpPr>
            <a:xfrm>
              <a:off x="1676520" y="3192480"/>
              <a:ext cx="6222960" cy="2227320"/>
              <a:chOff x="1676520" y="3192480"/>
              <a:chExt cx="6222960" cy="2227320"/>
            </a:xfrm>
          </p:grpSpPr>
          <p:grpSp>
            <p:nvGrpSpPr>
              <p:cNvPr id="381" name="Group 25"/>
              <p:cNvGrpSpPr/>
              <p:nvPr/>
            </p:nvGrpSpPr>
            <p:grpSpPr>
              <a:xfrm>
                <a:off x="1676520" y="3197160"/>
                <a:ext cx="6221160" cy="2222640"/>
                <a:chOff x="1676520" y="3197160"/>
                <a:chExt cx="6221160" cy="2222640"/>
              </a:xfrm>
            </p:grpSpPr>
            <p:sp>
              <p:nvSpPr>
                <p:cNvPr id="382" name="Line 26"/>
                <p:cNvSpPr/>
                <p:nvPr/>
              </p:nvSpPr>
              <p:spPr>
                <a:xfrm>
                  <a:off x="1709640" y="3197160"/>
                  <a:ext cx="6172200" cy="22100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" name="Group 27"/>
                <p:cNvGrpSpPr/>
                <p:nvPr/>
              </p:nvGrpSpPr>
              <p:grpSpPr>
                <a:xfrm>
                  <a:off x="1676520" y="3200400"/>
                  <a:ext cx="6221160" cy="2219400"/>
                  <a:chOff x="1676520" y="3200400"/>
                  <a:chExt cx="6221160" cy="2219400"/>
                </a:xfrm>
              </p:grpSpPr>
              <p:sp>
                <p:nvSpPr>
                  <p:cNvPr id="384" name="Line 28"/>
                  <p:cNvSpPr/>
                  <p:nvPr/>
                </p:nvSpPr>
                <p:spPr>
                  <a:xfrm>
                    <a:off x="1676520" y="3200400"/>
                    <a:ext cx="1440" cy="2217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Line 29"/>
                  <p:cNvSpPr/>
                  <p:nvPr/>
                </p:nvSpPr>
                <p:spPr>
                  <a:xfrm>
                    <a:off x="1676520" y="5418000"/>
                    <a:ext cx="6221160" cy="18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6" name="Line 30"/>
              <p:cNvSpPr/>
              <p:nvPr/>
            </p:nvSpPr>
            <p:spPr>
              <a:xfrm>
                <a:off x="1676520" y="3192480"/>
                <a:ext cx="6221160" cy="144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V="1">
                <a:off x="7897680" y="3192480"/>
                <a:ext cx="1800" cy="221760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457200" y="4084560"/>
              <a:ext cx="1219320" cy="10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b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?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3"/>
            <p:cNvSpPr/>
            <p:nvPr/>
          </p:nvSpPr>
          <p:spPr>
            <a:xfrm>
              <a:off x="3677760" y="5592600"/>
              <a:ext cx="1177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a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1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34"/>
            <p:cNvSpPr/>
            <p:nvPr/>
          </p:nvSpPr>
          <p:spPr>
            <a:xfrm>
              <a:off x="4622760" y="3535200"/>
              <a:ext cx="15670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C=17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35"/>
            <p:cNvGrpSpPr/>
            <p:nvPr/>
          </p:nvGrpSpPr>
          <p:grpSpPr>
            <a:xfrm>
              <a:off x="1681200" y="5078520"/>
              <a:ext cx="333360" cy="331560"/>
              <a:chOff x="1681200" y="5078520"/>
              <a:chExt cx="333360" cy="331560"/>
            </a:xfrm>
          </p:grpSpPr>
          <p:sp>
            <p:nvSpPr>
              <p:cNvPr id="392" name="Line 36"/>
              <p:cNvSpPr/>
              <p:nvPr/>
            </p:nvSpPr>
            <p:spPr>
              <a:xfrm>
                <a:off x="1681200" y="5078520"/>
                <a:ext cx="33192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37"/>
              <p:cNvSpPr/>
              <p:nvPr/>
            </p:nvSpPr>
            <p:spPr>
              <a:xfrm>
                <a:off x="2013120" y="5078520"/>
                <a:ext cx="1440" cy="331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026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Side length of the rectangle is 8”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1027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96" name="Line 1028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029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030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031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1032"/>
          <p:cNvGrpSpPr/>
          <p:nvPr/>
        </p:nvGrpSpPr>
        <p:grpSpPr>
          <a:xfrm>
            <a:off x="4356000" y="2633760"/>
            <a:ext cx="4075200" cy="1914120"/>
            <a:chOff x="4356000" y="2633760"/>
            <a:chExt cx="4075200" cy="1914120"/>
          </a:xfrm>
        </p:grpSpPr>
        <p:sp>
          <p:nvSpPr>
            <p:cNvPr id="401" name="Rectangle 1033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1034"/>
            <p:cNvSpPr/>
            <p:nvPr/>
          </p:nvSpPr>
          <p:spPr>
            <a:xfrm>
              <a:off x="7999200" y="4044960"/>
              <a:ext cx="432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8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Line 1035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036"/>
          <p:cNvSpPr/>
          <p:nvPr/>
        </p:nvSpPr>
        <p:spPr>
          <a:xfrm>
            <a:off x="4071960" y="4205160"/>
            <a:ext cx="1033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228600" y="41292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ractice using                     The Pythagorean Theorem     to solve these right triangles: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0" dur="1" fill="hold"/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1"/>
          <p:cNvGrpSpPr/>
          <p:nvPr/>
        </p:nvGrpSpPr>
        <p:grpSpPr>
          <a:xfrm>
            <a:off x="3038400" y="212760"/>
            <a:ext cx="4581720" cy="2378160"/>
            <a:chOff x="3038400" y="212760"/>
            <a:chExt cx="4581720" cy="2378160"/>
          </a:xfrm>
        </p:grpSpPr>
        <p:sp>
          <p:nvSpPr>
            <p:cNvPr id="407" name="Rectangle 22"/>
            <p:cNvSpPr/>
            <p:nvPr/>
          </p:nvSpPr>
          <p:spPr>
            <a:xfrm>
              <a:off x="7153200" y="14018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3"/>
            <p:cNvSpPr/>
            <p:nvPr/>
          </p:nvSpPr>
          <p:spPr>
            <a:xfrm>
              <a:off x="524808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4"/>
            <p:cNvSpPr/>
            <p:nvPr/>
          </p:nvSpPr>
          <p:spPr>
            <a:xfrm>
              <a:off x="455292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Group 25"/>
            <p:cNvGrpSpPr/>
            <p:nvPr/>
          </p:nvGrpSpPr>
          <p:grpSpPr>
            <a:xfrm>
              <a:off x="3038400" y="945000"/>
              <a:ext cx="3949920" cy="1645920"/>
              <a:chOff x="3038400" y="945000"/>
              <a:chExt cx="3949920" cy="1645920"/>
            </a:xfrm>
          </p:grpSpPr>
          <p:sp>
            <p:nvSpPr>
              <p:cNvPr id="411" name="Line 26"/>
              <p:cNvSpPr/>
              <p:nvPr/>
            </p:nvSpPr>
            <p:spPr>
              <a:xfrm flipH="1" flipV="1">
                <a:off x="674964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Group 27"/>
              <p:cNvGrpSpPr/>
              <p:nvPr/>
            </p:nvGrpSpPr>
            <p:grpSpPr>
              <a:xfrm>
                <a:off x="3038400" y="945000"/>
                <a:ext cx="3949920" cy="1645920"/>
                <a:chOff x="3038400" y="945000"/>
                <a:chExt cx="3949920" cy="1645920"/>
              </a:xfrm>
            </p:grpSpPr>
            <p:sp>
              <p:nvSpPr>
                <p:cNvPr id="413" name="Line 28"/>
                <p:cNvSpPr/>
                <p:nvPr/>
              </p:nvSpPr>
              <p:spPr>
                <a:xfrm flipH="1" flipV="1">
                  <a:off x="698760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29"/>
                <p:cNvSpPr/>
                <p:nvPr/>
              </p:nvSpPr>
              <p:spPr>
                <a:xfrm flipH="1" flipV="1">
                  <a:off x="3039480" y="945000"/>
                  <a:ext cx="394884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30"/>
                <p:cNvSpPr/>
                <p:nvPr/>
              </p:nvSpPr>
              <p:spPr>
                <a:xfrm>
                  <a:off x="3038400" y="946080"/>
                  <a:ext cx="39499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Line 31"/>
                <p:cNvSpPr/>
                <p:nvPr/>
              </p:nvSpPr>
              <p:spPr>
                <a:xfrm flipH="1" flipV="1">
                  <a:off x="674892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3038400" y="212760"/>
            <a:ext cx="4581720" cy="2378160"/>
            <a:chOff x="3038400" y="212760"/>
            <a:chExt cx="4581720" cy="2378160"/>
          </a:xfrm>
        </p:grpSpPr>
        <p:sp>
          <p:nvSpPr>
            <p:cNvPr id="418" name="Rectangle 3"/>
            <p:cNvSpPr/>
            <p:nvPr/>
          </p:nvSpPr>
          <p:spPr>
            <a:xfrm>
              <a:off x="7153200" y="14018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524808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5"/>
            <p:cNvSpPr/>
            <p:nvPr/>
          </p:nvSpPr>
          <p:spPr>
            <a:xfrm>
              <a:off x="455292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6"/>
            <p:cNvGrpSpPr/>
            <p:nvPr/>
          </p:nvGrpSpPr>
          <p:grpSpPr>
            <a:xfrm>
              <a:off x="3038400" y="945000"/>
              <a:ext cx="3949920" cy="1645920"/>
              <a:chOff x="3038400" y="945000"/>
              <a:chExt cx="3949920" cy="1645920"/>
            </a:xfrm>
          </p:grpSpPr>
          <p:sp>
            <p:nvSpPr>
              <p:cNvPr id="422" name="Line 7"/>
              <p:cNvSpPr/>
              <p:nvPr/>
            </p:nvSpPr>
            <p:spPr>
              <a:xfrm flipH="1" flipV="1">
                <a:off x="674964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Group 8"/>
              <p:cNvGrpSpPr/>
              <p:nvPr/>
            </p:nvGrpSpPr>
            <p:grpSpPr>
              <a:xfrm>
                <a:off x="3038400" y="945000"/>
                <a:ext cx="3949920" cy="1645920"/>
                <a:chOff x="3038400" y="945000"/>
                <a:chExt cx="3949920" cy="1645920"/>
              </a:xfrm>
            </p:grpSpPr>
            <p:sp>
              <p:nvSpPr>
                <p:cNvPr id="424" name="Line 9"/>
                <p:cNvSpPr/>
                <p:nvPr/>
              </p:nvSpPr>
              <p:spPr>
                <a:xfrm flipH="1" flipV="1">
                  <a:off x="698760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10"/>
                <p:cNvSpPr/>
                <p:nvPr/>
              </p:nvSpPr>
              <p:spPr>
                <a:xfrm flipH="1" flipV="1">
                  <a:off x="3039480" y="945000"/>
                  <a:ext cx="394884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11"/>
                <p:cNvSpPr/>
                <p:nvPr/>
              </p:nvSpPr>
              <p:spPr>
                <a:xfrm>
                  <a:off x="3038400" y="946080"/>
                  <a:ext cx="39499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12"/>
                <p:cNvSpPr/>
                <p:nvPr/>
              </p:nvSpPr>
              <p:spPr>
                <a:xfrm flipH="1" flipV="1">
                  <a:off x="674892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8" name="Text Box 13"/>
          <p:cNvSpPr/>
          <p:nvPr/>
        </p:nvSpPr>
        <p:spPr>
          <a:xfrm>
            <a:off x="5562720" y="152280"/>
            <a:ext cx="1143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24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7696080" y="1295280"/>
            <a:ext cx="83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5"/>
          <p:cNvSpPr/>
          <p:nvPr/>
        </p:nvSpPr>
        <p:spPr>
          <a:xfrm>
            <a:off x="4419720" y="2362320"/>
            <a:ext cx="83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6"/>
              <p:cNvSpPr txBox="1"/>
              <p:nvPr/>
            </p:nvSpPr>
            <p:spPr>
              <a:xfrm>
                <a:off x="685800" y="1371600"/>
                <a:ext cx="2933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17"/>
              <p:cNvSpPr txBox="1"/>
              <p:nvPr/>
            </p:nvSpPr>
            <p:spPr>
              <a:xfrm>
                <a:off x="482760" y="2209680"/>
                <a:ext cx="3479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8"/>
              <p:cNvSpPr txBox="1"/>
              <p:nvPr/>
            </p:nvSpPr>
            <p:spPr>
              <a:xfrm>
                <a:off x="457200" y="2971800"/>
                <a:ext cx="351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9"/>
              <p:cNvSpPr txBox="1"/>
              <p:nvPr/>
            </p:nvSpPr>
            <p:spPr>
              <a:xfrm>
                <a:off x="520560" y="3733920"/>
                <a:ext cx="351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0"/>
              <p:cNvSpPr txBox="1"/>
              <p:nvPr/>
            </p:nvSpPr>
            <p:spPr>
              <a:xfrm>
                <a:off x="1219320" y="4495680"/>
                <a:ext cx="2108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1"/>
              <p:cNvSpPr txBox="1"/>
              <p:nvPr/>
            </p:nvSpPr>
            <p:spPr>
              <a:xfrm>
                <a:off x="4800600" y="3505320"/>
                <a:ext cx="2743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sing a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+ b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= c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ing for length of a 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"/>
          <p:cNvSpPr/>
          <p:nvPr/>
        </p:nvSpPr>
        <p:spPr>
          <a:xfrm>
            <a:off x="1312920" y="2895480"/>
            <a:ext cx="2286000" cy="137160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5"/>
          <p:cNvSpPr txBox="1"/>
          <p:nvPr/>
        </p:nvSpPr>
        <p:spPr>
          <a:xfrm>
            <a:off x="533520" y="327672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1" name="WordArt 6"/>
          <p:cNvSpPr txBox="1"/>
          <p:nvPr/>
        </p:nvSpPr>
        <p:spPr>
          <a:xfrm>
            <a:off x="1981080" y="4343400"/>
            <a:ext cx="6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2" name="WordArt 7"/>
          <p:cNvSpPr txBox="1"/>
          <p:nvPr/>
        </p:nvSpPr>
        <p:spPr>
          <a:xfrm>
            <a:off x="2590920" y="2971800"/>
            <a:ext cx="68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6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100 -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696960" y="331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630336" presetSubtype="127897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7630336" presetSubtype="1278973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630336" presetSubtype="1278973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7630336" presetSubtype="1278974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1904760" y="1859040"/>
            <a:ext cx="5867640" cy="2865240"/>
            <a:chOff x="1904760" y="1859040"/>
            <a:chExt cx="5867640" cy="2865240"/>
          </a:xfrm>
        </p:grpSpPr>
        <p:sp>
          <p:nvSpPr>
            <p:cNvPr id="446" name="Line 3"/>
            <p:cNvSpPr/>
            <p:nvPr/>
          </p:nvSpPr>
          <p:spPr>
            <a:xfrm>
              <a:off x="2286000" y="1859040"/>
              <a:ext cx="1440" cy="228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1904760" y="269712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5"/>
            <p:cNvSpPr/>
            <p:nvPr/>
          </p:nvSpPr>
          <p:spPr>
            <a:xfrm>
              <a:off x="2286000" y="4145040"/>
              <a:ext cx="548496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6"/>
            <p:cNvSpPr/>
            <p:nvPr/>
          </p:nvSpPr>
          <p:spPr>
            <a:xfrm>
              <a:off x="4258800" y="42213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7"/>
            <p:cNvSpPr/>
            <p:nvPr/>
          </p:nvSpPr>
          <p:spPr>
            <a:xfrm flipH="1" flipV="1">
              <a:off x="2286000" y="1859040"/>
              <a:ext cx="5486400" cy="228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4952880" y="2316240"/>
              <a:ext cx="15242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9"/>
            <p:cNvSpPr/>
            <p:nvPr/>
          </p:nvSpPr>
          <p:spPr>
            <a:xfrm>
              <a:off x="2286000" y="3813120"/>
              <a:ext cx="331920" cy="18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0"/>
            <p:cNvSpPr/>
            <p:nvPr/>
          </p:nvSpPr>
          <p:spPr>
            <a:xfrm>
              <a:off x="2617920" y="3813120"/>
              <a:ext cx="1440" cy="33192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TextBox 2"/>
          <p:cNvSpPr/>
          <p:nvPr/>
        </p:nvSpPr>
        <p:spPr>
          <a:xfrm>
            <a:off x="1066680" y="533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Y TH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br>
              <a:rPr sz="4400"/>
            </a:b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+ b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= c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any right triangle, the sum of the areas of the two small squares is equal to the area of the larger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1"/>
          <a:stretch/>
        </p:blipFill>
        <p:spPr>
          <a:xfrm>
            <a:off x="5240160" y="1981080"/>
            <a:ext cx="3598920" cy="388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1904760" y="1858680"/>
            <a:ext cx="5867640" cy="2865240"/>
            <a:chOff x="1904760" y="1858680"/>
            <a:chExt cx="5867640" cy="2865240"/>
          </a:xfrm>
        </p:grpSpPr>
        <p:sp>
          <p:nvSpPr>
            <p:cNvPr id="456" name="Line 3"/>
            <p:cNvSpPr/>
            <p:nvPr/>
          </p:nvSpPr>
          <p:spPr>
            <a:xfrm>
              <a:off x="2286000" y="1859040"/>
              <a:ext cx="144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1904760" y="26967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5"/>
            <p:cNvSpPr/>
            <p:nvPr/>
          </p:nvSpPr>
          <p:spPr>
            <a:xfrm>
              <a:off x="2286000" y="4144680"/>
              <a:ext cx="5484960" cy="108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257720" y="4221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7"/>
            <p:cNvSpPr/>
            <p:nvPr/>
          </p:nvSpPr>
          <p:spPr>
            <a:xfrm flipH="1" flipV="1">
              <a:off x="2286000" y="1858680"/>
              <a:ext cx="548640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4952880" y="2315880"/>
              <a:ext cx="121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>
              <a:off x="2286000" y="3812760"/>
              <a:ext cx="33192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2617920" y="3812760"/>
              <a:ext cx="1440" cy="33156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10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1198440" cy="156204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1"/>
          <p:cNvSpPr/>
          <p:nvPr/>
        </p:nvSpPr>
        <p:spPr>
          <a:xfrm>
            <a:off x="1523880" y="13590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ctangular field has a length of 100 yards and a width of 33 yards. About how far is it from one corner of the field to the opposite corner of the field? Round your answer to the nearest te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12"/>
          <p:cNvGrpSpPr/>
          <p:nvPr/>
        </p:nvGrpSpPr>
        <p:grpSpPr>
          <a:xfrm>
            <a:off x="712800" y="1066680"/>
            <a:ext cx="4525200" cy="762120"/>
            <a:chOff x="712800" y="1066680"/>
            <a:chExt cx="4525200" cy="762120"/>
          </a:xfrm>
        </p:grpSpPr>
        <p:grpSp>
          <p:nvGrpSpPr>
            <p:cNvPr id="469" name="Group 13"/>
            <p:cNvGrpSpPr/>
            <p:nvPr/>
          </p:nvGrpSpPr>
          <p:grpSpPr>
            <a:xfrm>
              <a:off x="712800" y="1066680"/>
              <a:ext cx="761760" cy="762120"/>
              <a:chOff x="712800" y="1066680"/>
              <a:chExt cx="761760" cy="762120"/>
            </a:xfrm>
          </p:grpSpPr>
          <p:pic>
            <p:nvPicPr>
              <p:cNvPr id="470" name="Picture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712800" y="106668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Text Box 15"/>
              <p:cNvSpPr/>
              <p:nvPr/>
            </p:nvSpPr>
            <p:spPr>
              <a:xfrm>
                <a:off x="844920" y="1084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Text Box 16"/>
            <p:cNvSpPr/>
            <p:nvPr/>
          </p:nvSpPr>
          <p:spPr>
            <a:xfrm>
              <a:off x="1000440" y="1141920"/>
              <a:ext cx="42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Text Box 17"/>
          <p:cNvSpPr/>
          <p:nvPr/>
        </p:nvSpPr>
        <p:spPr>
          <a:xfrm>
            <a:off x="2009880" y="1600200"/>
            <a:ext cx="46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the question as a sta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1495440" y="203976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the distance from one corner of the field to the opposite corner of th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2192040" y="4454640"/>
            <a:ext cx="533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gment between the two corner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ypoten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0"/>
          <p:cNvSpPr/>
          <p:nvPr/>
        </p:nvSpPr>
        <p:spPr>
          <a:xfrm>
            <a:off x="1463760" y="5257800"/>
            <a:ext cx="768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des of the fields are legs, and they are 33 yards long and 100 yards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1477800" y="2844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ant inform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22"/>
          <p:cNvSpPr/>
          <p:nvPr/>
        </p:nvSpPr>
        <p:spPr>
          <a:xfrm>
            <a:off x="1447920" y="328464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awing a segment from one corner of the field to the opposite corner of the field divides the field into two right tri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63360" y="60840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380880" y="1492200"/>
            <a:ext cx="2684520" cy="647640"/>
            <a:chOff x="380880" y="1492200"/>
            <a:chExt cx="2684520" cy="647640"/>
          </a:xfrm>
        </p:grpSpPr>
        <p:grpSp>
          <p:nvGrpSpPr>
            <p:cNvPr id="481" name="Group 12"/>
            <p:cNvGrpSpPr/>
            <p:nvPr/>
          </p:nvGrpSpPr>
          <p:grpSpPr>
            <a:xfrm>
              <a:off x="380880" y="1492200"/>
              <a:ext cx="571680" cy="647640"/>
              <a:chOff x="380880" y="1492200"/>
              <a:chExt cx="571680" cy="647640"/>
            </a:xfrm>
          </p:grpSpPr>
          <p:pic>
            <p:nvPicPr>
              <p:cNvPr id="482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Text Box 14"/>
              <p:cNvSpPr/>
              <p:nvPr/>
            </p:nvSpPr>
            <p:spPr>
              <a:xfrm>
                <a:off x="515160" y="152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Text Box 15"/>
            <p:cNvSpPr/>
            <p:nvPr/>
          </p:nvSpPr>
          <p:spPr>
            <a:xfrm>
              <a:off x="1241640" y="1538280"/>
              <a:ext cx="18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Text Box 16"/>
          <p:cNvSpPr/>
          <p:nvPr/>
        </p:nvSpPr>
        <p:spPr>
          <a:xfrm>
            <a:off x="1726200" y="1981080"/>
            <a:ext cx="52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e Pythagorean Theorem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Group 10"/>
          <p:cNvGrpSpPr/>
          <p:nvPr/>
        </p:nvGrpSpPr>
        <p:grpSpPr>
          <a:xfrm>
            <a:off x="533520" y="990720"/>
            <a:ext cx="1737000" cy="704880"/>
            <a:chOff x="533520" y="990720"/>
            <a:chExt cx="1737000" cy="704880"/>
          </a:xfrm>
        </p:grpSpPr>
        <p:sp>
          <p:nvSpPr>
            <p:cNvPr id="488" name="Text Box 11"/>
            <p:cNvSpPr/>
            <p:nvPr/>
          </p:nvSpPr>
          <p:spPr>
            <a:xfrm>
              <a:off x="1395000" y="11134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Group 12"/>
            <p:cNvGrpSpPr/>
            <p:nvPr/>
          </p:nvGrpSpPr>
          <p:grpSpPr>
            <a:xfrm>
              <a:off x="533520" y="990720"/>
              <a:ext cx="704880" cy="704880"/>
              <a:chOff x="533520" y="990720"/>
              <a:chExt cx="704880" cy="704880"/>
            </a:xfrm>
          </p:grpSpPr>
          <p:pic>
            <p:nvPicPr>
              <p:cNvPr id="490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99072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Text Box 14"/>
              <p:cNvSpPr/>
              <p:nvPr/>
            </p:nvSpPr>
            <p:spPr>
              <a:xfrm>
                <a:off x="748800" y="1108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Text Box 15"/>
          <p:cNvSpPr/>
          <p:nvPr/>
        </p:nvSpPr>
        <p:spPr>
          <a:xfrm>
            <a:off x="1653480" y="167652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1150920" y="22557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50080" y="2819520"/>
            <a:ext cx="25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9 + 10,00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1636920" y="3400560"/>
            <a:ext cx="15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,089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1398600" y="396252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.30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1187280" y="5121360"/>
            <a:ext cx="60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from one corner of the field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corner is about 105.3 y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3698280" y="17017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Use the Pythagorean Theor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781800" y="2266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Substitute for the known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3558600" y="28195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Evaluate th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3295440" y="3400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3807000" y="396252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Take the square roots of both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1726920" y="457200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3309840" y="4572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9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5" descr="F:\images_sound\baseball.gif"/>
          <p:cNvPicPr/>
          <p:nvPr/>
        </p:nvPicPr>
        <p:blipFill>
          <a:blip r:embed="rId1"/>
          <a:srcRect l="0" t="18087" r="53086" b="12214"/>
          <a:stretch/>
        </p:blipFill>
        <p:spPr>
          <a:xfrm>
            <a:off x="0" y="-11160"/>
            <a:ext cx="9159840" cy="688032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eball “diamond” is really a squ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se the Pythagorean theorem to find distances around a baseball diam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ballgame_dj.mid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8" dur="1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1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5" dur="1" fill="hold"/>
                                  <p:tgtEl>
                                    <p:spTgt spid="5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cutive bases is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t. How far doe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er have to th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l from h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 to second b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9" descr="F:\images_sound\baball1.gif"/>
          <p:cNvPicPr/>
          <p:nvPr/>
        </p:nvPicPr>
        <p:blipFill>
          <a:blip r:embed="rId1"/>
          <a:srcRect l="0" t="0" r="13595" b="31467"/>
          <a:stretch/>
        </p:blipFill>
        <p:spPr>
          <a:xfrm>
            <a:off x="4191120" y="1905120"/>
            <a:ext cx="457668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0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4" dur="1" fill="hold"/>
                                  <p:tgtEl>
                                    <p:spTgt spid="5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the Pythagorean theorem to solve for x, find the right ang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ide is the hypoten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ides are the le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us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4" descr="F:\images_sound\baball2.gif"/>
          <p:cNvPicPr/>
          <p:nvPr/>
        </p:nvPicPr>
        <p:blipFill>
          <a:blip r:embed="rId1"/>
          <a:srcRect l="0" t="0" r="0" b="32489"/>
          <a:stretch/>
        </p:blipFill>
        <p:spPr>
          <a:xfrm>
            <a:off x="457200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1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1" dur="1" fill="hold"/>
                                  <p:tgtEl>
                                    <p:spTgt spid="5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ypoten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istance from home to second, or side x in the pi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rom home to first and from first to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,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127.28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5" descr="F:\images_sound\baball2.gif"/>
          <p:cNvPicPr/>
          <p:nvPr/>
        </p:nvPicPr>
        <p:blipFill>
          <a:blip r:embed="rId1"/>
          <a:srcRect l="0" t="0" r="0" b="32489"/>
          <a:stretch/>
        </p:blipFill>
        <p:spPr>
          <a:xfrm>
            <a:off x="472428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4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4" dur="1" fill="hold"/>
                                  <p:tgtEl>
                                    <p:spTgt spid="5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dder leans against a second-story window of a hous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ladder is 25 meters lo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ase of the ladder is 7 meters from the hous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high is the window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8" descr="C:\Ali's Database\BILLIE\house.gif"/>
          <p:cNvPicPr/>
          <p:nvPr/>
        </p:nvPicPr>
        <p:blipFill>
          <a:blip r:embed="rId1"/>
          <a:stretch/>
        </p:blipFill>
        <p:spPr>
          <a:xfrm>
            <a:off x="4871880" y="1981080"/>
            <a:ext cx="3360960" cy="4114800"/>
          </a:xfrm>
          <a:prstGeom prst="rect">
            <a:avLst/>
          </a:prstGeom>
          <a:ln w="0">
            <a:noFill/>
          </a:ln>
        </p:spPr>
      </p:pic>
      <p:pic>
        <p:nvPicPr>
          <p:cNvPr id="521" name="file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0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0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1" dur="1" fill="hold"/>
                                  <p:tgtEl>
                                    <p:spTgt spid="5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F:\images_sound\pythprf.gif"/>
          <p:cNvPicPr/>
          <p:nvPr/>
        </p:nvPicPr>
        <p:blipFill>
          <a:blip r:embed="rId1"/>
          <a:stretch/>
        </p:blipFill>
        <p:spPr>
          <a:xfrm>
            <a:off x="1905120" y="1905120"/>
            <a:ext cx="5257800" cy="4400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draw a diagram that shows the sides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 the sid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dder is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25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ance from house is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7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+ b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c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olve for the missing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5"/>
          <p:cNvSpPr/>
          <p:nvPr/>
        </p:nvSpPr>
        <p:spPr>
          <a:xfrm>
            <a:off x="4892760" y="1378080"/>
            <a:ext cx="2609640" cy="410184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4101840"/>
              <a:gd name="textAreaBottom" fmla="*/ 4102200 h 4101840"/>
            </a:gdLst>
            <a:ahLst/>
            <a:rect l="textAreaLeft" t="textAreaTop" r="textAreaRight" b="textAreaBottom"/>
            <a:pathLst>
              <a:path w="1644" h="2584">
                <a:moveTo>
                  <a:pt x="1644" y="0"/>
                </a:moveTo>
                <a:lnTo>
                  <a:pt x="1644" y="2584"/>
                </a:lnTo>
                <a:lnTo>
                  <a:pt x="0" y="2584"/>
                </a:lnTo>
                <a:lnTo>
                  <a:pt x="1644" y="0"/>
                </a:lnTo>
                <a:close/>
              </a:path>
            </a:pathLst>
          </a:custGeom>
          <a:solidFill>
            <a:srgbClr val="00e6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6"/>
          <p:cNvSpPr/>
          <p:nvPr/>
        </p:nvSpPr>
        <p:spPr>
          <a:xfrm>
            <a:off x="4892760" y="2265480"/>
            <a:ext cx="1592280" cy="226224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2262240"/>
              <a:gd name="textAreaBottom" fmla="*/ 2262600 h 2262240"/>
            </a:gdLst>
            <a:ahLst/>
            <a:rect l="textAreaLeft" t="textAreaTop" r="textAreaRight" b="textAreaBottom"/>
            <a:pathLst>
              <a:path w="1003" h="1425">
                <a:moveTo>
                  <a:pt x="160" y="1354"/>
                </a:moveTo>
                <a:lnTo>
                  <a:pt x="154" y="1365"/>
                </a:lnTo>
                <a:lnTo>
                  <a:pt x="142" y="1401"/>
                </a:lnTo>
                <a:lnTo>
                  <a:pt x="130" y="1413"/>
                </a:lnTo>
                <a:lnTo>
                  <a:pt x="130" y="1419"/>
                </a:lnTo>
                <a:lnTo>
                  <a:pt x="124" y="1425"/>
                </a:lnTo>
                <a:lnTo>
                  <a:pt x="118" y="1425"/>
                </a:lnTo>
                <a:lnTo>
                  <a:pt x="106" y="1419"/>
                </a:lnTo>
                <a:lnTo>
                  <a:pt x="83" y="1401"/>
                </a:lnTo>
                <a:lnTo>
                  <a:pt x="47" y="1377"/>
                </a:lnTo>
                <a:lnTo>
                  <a:pt x="5" y="1348"/>
                </a:lnTo>
                <a:lnTo>
                  <a:pt x="0" y="1342"/>
                </a:lnTo>
                <a:lnTo>
                  <a:pt x="5" y="1336"/>
                </a:lnTo>
                <a:lnTo>
                  <a:pt x="5" y="1330"/>
                </a:lnTo>
                <a:lnTo>
                  <a:pt x="17" y="1330"/>
                </a:lnTo>
                <a:lnTo>
                  <a:pt x="59" y="1359"/>
                </a:lnTo>
                <a:lnTo>
                  <a:pt x="95" y="1389"/>
                </a:lnTo>
                <a:lnTo>
                  <a:pt x="106" y="1395"/>
                </a:lnTo>
                <a:lnTo>
                  <a:pt x="112" y="1401"/>
                </a:lnTo>
                <a:lnTo>
                  <a:pt x="118" y="1401"/>
                </a:lnTo>
                <a:lnTo>
                  <a:pt x="130" y="1377"/>
                </a:lnTo>
                <a:lnTo>
                  <a:pt x="142" y="1348"/>
                </a:lnTo>
                <a:lnTo>
                  <a:pt x="142" y="1342"/>
                </a:lnTo>
                <a:lnTo>
                  <a:pt x="154" y="1342"/>
                </a:lnTo>
                <a:lnTo>
                  <a:pt x="160" y="1348"/>
                </a:lnTo>
                <a:lnTo>
                  <a:pt x="160" y="1354"/>
                </a:lnTo>
                <a:close/>
                <a:moveTo>
                  <a:pt x="160" y="1354"/>
                </a:moveTo>
                <a:lnTo>
                  <a:pt x="160" y="1354"/>
                </a:lnTo>
                <a:close/>
                <a:moveTo>
                  <a:pt x="219" y="1276"/>
                </a:moveTo>
                <a:lnTo>
                  <a:pt x="213" y="1276"/>
                </a:lnTo>
                <a:lnTo>
                  <a:pt x="201" y="1288"/>
                </a:lnTo>
                <a:lnTo>
                  <a:pt x="201" y="1300"/>
                </a:lnTo>
                <a:lnTo>
                  <a:pt x="172" y="1330"/>
                </a:lnTo>
                <a:lnTo>
                  <a:pt x="136" y="1318"/>
                </a:lnTo>
                <a:lnTo>
                  <a:pt x="118" y="1300"/>
                </a:lnTo>
                <a:lnTo>
                  <a:pt x="112" y="1282"/>
                </a:lnTo>
                <a:lnTo>
                  <a:pt x="112" y="1259"/>
                </a:lnTo>
                <a:lnTo>
                  <a:pt x="118" y="1241"/>
                </a:lnTo>
                <a:lnTo>
                  <a:pt x="130" y="1229"/>
                </a:lnTo>
                <a:lnTo>
                  <a:pt x="142" y="1223"/>
                </a:lnTo>
                <a:lnTo>
                  <a:pt x="148" y="1229"/>
                </a:lnTo>
                <a:lnTo>
                  <a:pt x="154" y="1229"/>
                </a:lnTo>
                <a:lnTo>
                  <a:pt x="160" y="1235"/>
                </a:lnTo>
                <a:lnTo>
                  <a:pt x="172" y="1241"/>
                </a:lnTo>
                <a:lnTo>
                  <a:pt x="178" y="1247"/>
                </a:lnTo>
                <a:lnTo>
                  <a:pt x="190" y="1253"/>
                </a:lnTo>
                <a:lnTo>
                  <a:pt x="195" y="1259"/>
                </a:lnTo>
                <a:lnTo>
                  <a:pt x="201" y="1259"/>
                </a:lnTo>
                <a:lnTo>
                  <a:pt x="213" y="1264"/>
                </a:lnTo>
                <a:lnTo>
                  <a:pt x="219" y="1264"/>
                </a:lnTo>
                <a:lnTo>
                  <a:pt x="219" y="1276"/>
                </a:lnTo>
                <a:close/>
                <a:moveTo>
                  <a:pt x="219" y="1276"/>
                </a:moveTo>
                <a:lnTo>
                  <a:pt x="219" y="1276"/>
                </a:lnTo>
                <a:close/>
                <a:moveTo>
                  <a:pt x="154" y="1259"/>
                </a:moveTo>
                <a:lnTo>
                  <a:pt x="154" y="1253"/>
                </a:lnTo>
                <a:lnTo>
                  <a:pt x="148" y="1253"/>
                </a:lnTo>
                <a:lnTo>
                  <a:pt x="148" y="1247"/>
                </a:lnTo>
                <a:lnTo>
                  <a:pt x="136" y="1247"/>
                </a:lnTo>
                <a:lnTo>
                  <a:pt x="130" y="1253"/>
                </a:lnTo>
                <a:lnTo>
                  <a:pt x="130" y="1276"/>
                </a:lnTo>
                <a:lnTo>
                  <a:pt x="136" y="1288"/>
                </a:lnTo>
                <a:lnTo>
                  <a:pt x="148" y="1300"/>
                </a:lnTo>
                <a:lnTo>
                  <a:pt x="160" y="1306"/>
                </a:lnTo>
                <a:lnTo>
                  <a:pt x="166" y="1312"/>
                </a:lnTo>
                <a:lnTo>
                  <a:pt x="178" y="1306"/>
                </a:lnTo>
                <a:lnTo>
                  <a:pt x="190" y="1294"/>
                </a:lnTo>
                <a:lnTo>
                  <a:pt x="190" y="1276"/>
                </a:lnTo>
                <a:lnTo>
                  <a:pt x="172" y="1264"/>
                </a:lnTo>
                <a:lnTo>
                  <a:pt x="154" y="1259"/>
                </a:lnTo>
                <a:close/>
                <a:moveTo>
                  <a:pt x="154" y="1259"/>
                </a:moveTo>
                <a:lnTo>
                  <a:pt x="154" y="1259"/>
                </a:lnTo>
                <a:close/>
                <a:moveTo>
                  <a:pt x="207" y="1134"/>
                </a:moveTo>
                <a:lnTo>
                  <a:pt x="225" y="1152"/>
                </a:lnTo>
                <a:lnTo>
                  <a:pt x="249" y="1164"/>
                </a:lnTo>
                <a:lnTo>
                  <a:pt x="267" y="1175"/>
                </a:lnTo>
                <a:lnTo>
                  <a:pt x="273" y="1175"/>
                </a:lnTo>
                <a:lnTo>
                  <a:pt x="273" y="1187"/>
                </a:lnTo>
                <a:lnTo>
                  <a:pt x="267" y="1193"/>
                </a:lnTo>
                <a:lnTo>
                  <a:pt x="261" y="1193"/>
                </a:lnTo>
                <a:lnTo>
                  <a:pt x="261" y="1217"/>
                </a:lnTo>
                <a:lnTo>
                  <a:pt x="243" y="1235"/>
                </a:lnTo>
                <a:lnTo>
                  <a:pt x="225" y="1241"/>
                </a:lnTo>
                <a:lnTo>
                  <a:pt x="207" y="1241"/>
                </a:lnTo>
                <a:lnTo>
                  <a:pt x="190" y="1235"/>
                </a:lnTo>
                <a:lnTo>
                  <a:pt x="172" y="1217"/>
                </a:lnTo>
                <a:lnTo>
                  <a:pt x="166" y="1199"/>
                </a:lnTo>
                <a:lnTo>
                  <a:pt x="166" y="1181"/>
                </a:lnTo>
                <a:lnTo>
                  <a:pt x="172" y="1164"/>
                </a:lnTo>
                <a:lnTo>
                  <a:pt x="184" y="1152"/>
                </a:lnTo>
                <a:lnTo>
                  <a:pt x="195" y="1146"/>
                </a:lnTo>
                <a:lnTo>
                  <a:pt x="166" y="1128"/>
                </a:lnTo>
                <a:lnTo>
                  <a:pt x="148" y="1116"/>
                </a:lnTo>
                <a:lnTo>
                  <a:pt x="148" y="1104"/>
                </a:lnTo>
                <a:lnTo>
                  <a:pt x="154" y="1098"/>
                </a:lnTo>
                <a:lnTo>
                  <a:pt x="160" y="1104"/>
                </a:lnTo>
                <a:lnTo>
                  <a:pt x="166" y="1104"/>
                </a:lnTo>
                <a:lnTo>
                  <a:pt x="178" y="1110"/>
                </a:lnTo>
                <a:lnTo>
                  <a:pt x="207" y="1134"/>
                </a:lnTo>
                <a:close/>
                <a:moveTo>
                  <a:pt x="207" y="1134"/>
                </a:moveTo>
                <a:lnTo>
                  <a:pt x="207" y="1134"/>
                </a:lnTo>
                <a:close/>
                <a:moveTo>
                  <a:pt x="184" y="1169"/>
                </a:moveTo>
                <a:lnTo>
                  <a:pt x="178" y="1187"/>
                </a:lnTo>
                <a:lnTo>
                  <a:pt x="178" y="1199"/>
                </a:lnTo>
                <a:lnTo>
                  <a:pt x="190" y="1211"/>
                </a:lnTo>
                <a:lnTo>
                  <a:pt x="213" y="1223"/>
                </a:lnTo>
                <a:lnTo>
                  <a:pt x="219" y="1223"/>
                </a:lnTo>
                <a:lnTo>
                  <a:pt x="231" y="1217"/>
                </a:lnTo>
                <a:lnTo>
                  <a:pt x="243" y="1205"/>
                </a:lnTo>
                <a:lnTo>
                  <a:pt x="243" y="1181"/>
                </a:lnTo>
                <a:lnTo>
                  <a:pt x="219" y="1169"/>
                </a:lnTo>
                <a:lnTo>
                  <a:pt x="207" y="1158"/>
                </a:lnTo>
                <a:lnTo>
                  <a:pt x="195" y="1164"/>
                </a:lnTo>
                <a:lnTo>
                  <a:pt x="190" y="1169"/>
                </a:lnTo>
                <a:lnTo>
                  <a:pt x="184" y="1169"/>
                </a:lnTo>
                <a:close/>
                <a:moveTo>
                  <a:pt x="184" y="1169"/>
                </a:moveTo>
                <a:lnTo>
                  <a:pt x="184" y="1169"/>
                </a:lnTo>
                <a:close/>
                <a:moveTo>
                  <a:pt x="267" y="1045"/>
                </a:moveTo>
                <a:lnTo>
                  <a:pt x="314" y="1068"/>
                </a:lnTo>
                <a:lnTo>
                  <a:pt x="332" y="1080"/>
                </a:lnTo>
                <a:lnTo>
                  <a:pt x="338" y="1086"/>
                </a:lnTo>
                <a:lnTo>
                  <a:pt x="338" y="1092"/>
                </a:lnTo>
                <a:lnTo>
                  <a:pt x="332" y="1092"/>
                </a:lnTo>
                <a:lnTo>
                  <a:pt x="332" y="1098"/>
                </a:lnTo>
                <a:lnTo>
                  <a:pt x="326" y="1098"/>
                </a:lnTo>
                <a:lnTo>
                  <a:pt x="326" y="1104"/>
                </a:lnTo>
                <a:lnTo>
                  <a:pt x="320" y="1110"/>
                </a:lnTo>
                <a:lnTo>
                  <a:pt x="320" y="1122"/>
                </a:lnTo>
                <a:lnTo>
                  <a:pt x="302" y="1140"/>
                </a:lnTo>
                <a:lnTo>
                  <a:pt x="290" y="1146"/>
                </a:lnTo>
                <a:lnTo>
                  <a:pt x="273" y="1146"/>
                </a:lnTo>
                <a:lnTo>
                  <a:pt x="255" y="1140"/>
                </a:lnTo>
                <a:lnTo>
                  <a:pt x="237" y="1122"/>
                </a:lnTo>
                <a:lnTo>
                  <a:pt x="225" y="1104"/>
                </a:lnTo>
                <a:lnTo>
                  <a:pt x="225" y="1086"/>
                </a:lnTo>
                <a:lnTo>
                  <a:pt x="231" y="1068"/>
                </a:lnTo>
                <a:lnTo>
                  <a:pt x="243" y="1057"/>
                </a:lnTo>
                <a:lnTo>
                  <a:pt x="255" y="1051"/>
                </a:lnTo>
                <a:lnTo>
                  <a:pt x="225" y="1033"/>
                </a:lnTo>
                <a:lnTo>
                  <a:pt x="207" y="1015"/>
                </a:lnTo>
                <a:lnTo>
                  <a:pt x="207" y="1009"/>
                </a:lnTo>
                <a:lnTo>
                  <a:pt x="213" y="1003"/>
                </a:lnTo>
                <a:lnTo>
                  <a:pt x="219" y="1009"/>
                </a:lnTo>
                <a:lnTo>
                  <a:pt x="237" y="1021"/>
                </a:lnTo>
                <a:lnTo>
                  <a:pt x="249" y="1033"/>
                </a:lnTo>
                <a:lnTo>
                  <a:pt x="267" y="1045"/>
                </a:lnTo>
                <a:close/>
                <a:moveTo>
                  <a:pt x="267" y="1045"/>
                </a:moveTo>
                <a:lnTo>
                  <a:pt x="267" y="1045"/>
                </a:lnTo>
                <a:close/>
                <a:moveTo>
                  <a:pt x="249" y="1080"/>
                </a:moveTo>
                <a:lnTo>
                  <a:pt x="243" y="1092"/>
                </a:lnTo>
                <a:lnTo>
                  <a:pt x="243" y="1104"/>
                </a:lnTo>
                <a:lnTo>
                  <a:pt x="249" y="1116"/>
                </a:lnTo>
                <a:lnTo>
                  <a:pt x="273" y="1128"/>
                </a:lnTo>
                <a:lnTo>
                  <a:pt x="285" y="1128"/>
                </a:lnTo>
                <a:lnTo>
                  <a:pt x="296" y="1122"/>
                </a:lnTo>
                <a:lnTo>
                  <a:pt x="308" y="1110"/>
                </a:lnTo>
                <a:lnTo>
                  <a:pt x="308" y="1098"/>
                </a:lnTo>
                <a:lnTo>
                  <a:pt x="302" y="1092"/>
                </a:lnTo>
                <a:lnTo>
                  <a:pt x="302" y="1086"/>
                </a:lnTo>
                <a:lnTo>
                  <a:pt x="290" y="1080"/>
                </a:lnTo>
                <a:lnTo>
                  <a:pt x="285" y="1074"/>
                </a:lnTo>
                <a:lnTo>
                  <a:pt x="273" y="1068"/>
                </a:lnTo>
                <a:lnTo>
                  <a:pt x="261" y="1068"/>
                </a:lnTo>
                <a:lnTo>
                  <a:pt x="249" y="1080"/>
                </a:lnTo>
                <a:close/>
                <a:moveTo>
                  <a:pt x="249" y="1080"/>
                </a:moveTo>
                <a:lnTo>
                  <a:pt x="249" y="1080"/>
                </a:lnTo>
                <a:close/>
                <a:moveTo>
                  <a:pt x="374" y="1033"/>
                </a:moveTo>
                <a:lnTo>
                  <a:pt x="362" y="1051"/>
                </a:lnTo>
                <a:lnTo>
                  <a:pt x="350" y="1057"/>
                </a:lnTo>
                <a:lnTo>
                  <a:pt x="332" y="1063"/>
                </a:lnTo>
                <a:lnTo>
                  <a:pt x="296" y="1039"/>
                </a:lnTo>
                <a:lnTo>
                  <a:pt x="285" y="1021"/>
                </a:lnTo>
                <a:lnTo>
                  <a:pt x="279" y="1003"/>
                </a:lnTo>
                <a:lnTo>
                  <a:pt x="290" y="979"/>
                </a:lnTo>
                <a:lnTo>
                  <a:pt x="302" y="973"/>
                </a:lnTo>
                <a:lnTo>
                  <a:pt x="308" y="962"/>
                </a:lnTo>
                <a:lnTo>
                  <a:pt x="332" y="962"/>
                </a:lnTo>
                <a:lnTo>
                  <a:pt x="338" y="973"/>
                </a:lnTo>
                <a:lnTo>
                  <a:pt x="338" y="1003"/>
                </a:lnTo>
                <a:lnTo>
                  <a:pt x="332" y="1045"/>
                </a:lnTo>
                <a:lnTo>
                  <a:pt x="344" y="1045"/>
                </a:lnTo>
                <a:lnTo>
                  <a:pt x="368" y="1021"/>
                </a:lnTo>
                <a:lnTo>
                  <a:pt x="368" y="985"/>
                </a:lnTo>
                <a:lnTo>
                  <a:pt x="380" y="985"/>
                </a:lnTo>
                <a:lnTo>
                  <a:pt x="385" y="997"/>
                </a:lnTo>
                <a:lnTo>
                  <a:pt x="385" y="1009"/>
                </a:lnTo>
                <a:lnTo>
                  <a:pt x="374" y="1033"/>
                </a:lnTo>
                <a:close/>
                <a:moveTo>
                  <a:pt x="374" y="1033"/>
                </a:moveTo>
                <a:lnTo>
                  <a:pt x="374" y="1033"/>
                </a:lnTo>
                <a:close/>
                <a:moveTo>
                  <a:pt x="302" y="991"/>
                </a:moveTo>
                <a:lnTo>
                  <a:pt x="296" y="1003"/>
                </a:lnTo>
                <a:lnTo>
                  <a:pt x="302" y="1009"/>
                </a:lnTo>
                <a:lnTo>
                  <a:pt x="314" y="1033"/>
                </a:lnTo>
                <a:lnTo>
                  <a:pt x="320" y="1003"/>
                </a:lnTo>
                <a:lnTo>
                  <a:pt x="320" y="973"/>
                </a:lnTo>
                <a:lnTo>
                  <a:pt x="314" y="985"/>
                </a:lnTo>
                <a:lnTo>
                  <a:pt x="302" y="991"/>
                </a:lnTo>
                <a:close/>
                <a:moveTo>
                  <a:pt x="302" y="991"/>
                </a:moveTo>
                <a:lnTo>
                  <a:pt x="302" y="991"/>
                </a:lnTo>
                <a:close/>
                <a:moveTo>
                  <a:pt x="391" y="884"/>
                </a:moveTo>
                <a:lnTo>
                  <a:pt x="397" y="890"/>
                </a:lnTo>
                <a:lnTo>
                  <a:pt x="385" y="902"/>
                </a:lnTo>
                <a:lnTo>
                  <a:pt x="380" y="896"/>
                </a:lnTo>
                <a:lnTo>
                  <a:pt x="374" y="896"/>
                </a:lnTo>
                <a:lnTo>
                  <a:pt x="368" y="890"/>
                </a:lnTo>
                <a:lnTo>
                  <a:pt x="368" y="902"/>
                </a:lnTo>
                <a:lnTo>
                  <a:pt x="362" y="914"/>
                </a:lnTo>
                <a:lnTo>
                  <a:pt x="374" y="938"/>
                </a:lnTo>
                <a:lnTo>
                  <a:pt x="415" y="962"/>
                </a:lnTo>
                <a:lnTo>
                  <a:pt x="421" y="968"/>
                </a:lnTo>
                <a:lnTo>
                  <a:pt x="409" y="979"/>
                </a:lnTo>
                <a:lnTo>
                  <a:pt x="403" y="979"/>
                </a:lnTo>
                <a:lnTo>
                  <a:pt x="350" y="944"/>
                </a:lnTo>
                <a:lnTo>
                  <a:pt x="338" y="932"/>
                </a:lnTo>
                <a:lnTo>
                  <a:pt x="332" y="932"/>
                </a:lnTo>
                <a:lnTo>
                  <a:pt x="332" y="920"/>
                </a:lnTo>
                <a:lnTo>
                  <a:pt x="338" y="914"/>
                </a:lnTo>
                <a:lnTo>
                  <a:pt x="350" y="920"/>
                </a:lnTo>
                <a:lnTo>
                  <a:pt x="350" y="896"/>
                </a:lnTo>
                <a:lnTo>
                  <a:pt x="356" y="878"/>
                </a:lnTo>
                <a:lnTo>
                  <a:pt x="362" y="873"/>
                </a:lnTo>
                <a:lnTo>
                  <a:pt x="380" y="873"/>
                </a:lnTo>
                <a:lnTo>
                  <a:pt x="391" y="884"/>
                </a:lnTo>
                <a:close/>
                <a:moveTo>
                  <a:pt x="391" y="884"/>
                </a:moveTo>
                <a:lnTo>
                  <a:pt x="391" y="884"/>
                </a:lnTo>
                <a:close/>
                <a:moveTo>
                  <a:pt x="457" y="867"/>
                </a:moveTo>
                <a:lnTo>
                  <a:pt x="457" y="884"/>
                </a:lnTo>
                <a:lnTo>
                  <a:pt x="445" y="884"/>
                </a:lnTo>
                <a:lnTo>
                  <a:pt x="439" y="878"/>
                </a:lnTo>
                <a:lnTo>
                  <a:pt x="433" y="878"/>
                </a:lnTo>
                <a:lnTo>
                  <a:pt x="433" y="867"/>
                </a:lnTo>
                <a:lnTo>
                  <a:pt x="445" y="861"/>
                </a:lnTo>
                <a:lnTo>
                  <a:pt x="457" y="867"/>
                </a:lnTo>
                <a:close/>
                <a:moveTo>
                  <a:pt x="457" y="867"/>
                </a:moveTo>
                <a:lnTo>
                  <a:pt x="457" y="867"/>
                </a:lnTo>
                <a:close/>
                <a:moveTo>
                  <a:pt x="397" y="831"/>
                </a:moveTo>
                <a:lnTo>
                  <a:pt x="403" y="837"/>
                </a:lnTo>
                <a:lnTo>
                  <a:pt x="403" y="843"/>
                </a:lnTo>
                <a:lnTo>
                  <a:pt x="397" y="849"/>
                </a:lnTo>
                <a:lnTo>
                  <a:pt x="385" y="849"/>
                </a:lnTo>
                <a:lnTo>
                  <a:pt x="380" y="843"/>
                </a:lnTo>
                <a:lnTo>
                  <a:pt x="380" y="831"/>
                </a:lnTo>
                <a:lnTo>
                  <a:pt x="385" y="825"/>
                </a:lnTo>
                <a:lnTo>
                  <a:pt x="397" y="831"/>
                </a:lnTo>
                <a:close/>
                <a:moveTo>
                  <a:pt x="397" y="831"/>
                </a:moveTo>
                <a:lnTo>
                  <a:pt x="397" y="831"/>
                </a:lnTo>
                <a:close/>
                <a:moveTo>
                  <a:pt x="564" y="736"/>
                </a:moveTo>
                <a:lnTo>
                  <a:pt x="564" y="742"/>
                </a:lnTo>
                <a:lnTo>
                  <a:pt x="558" y="742"/>
                </a:lnTo>
                <a:lnTo>
                  <a:pt x="558" y="748"/>
                </a:lnTo>
                <a:lnTo>
                  <a:pt x="546" y="760"/>
                </a:lnTo>
                <a:lnTo>
                  <a:pt x="546" y="766"/>
                </a:lnTo>
                <a:lnTo>
                  <a:pt x="540" y="772"/>
                </a:lnTo>
                <a:lnTo>
                  <a:pt x="540" y="778"/>
                </a:lnTo>
                <a:lnTo>
                  <a:pt x="534" y="783"/>
                </a:lnTo>
                <a:lnTo>
                  <a:pt x="534" y="789"/>
                </a:lnTo>
                <a:lnTo>
                  <a:pt x="528" y="789"/>
                </a:lnTo>
                <a:lnTo>
                  <a:pt x="528" y="795"/>
                </a:lnTo>
                <a:lnTo>
                  <a:pt x="522" y="801"/>
                </a:lnTo>
                <a:lnTo>
                  <a:pt x="510" y="801"/>
                </a:lnTo>
                <a:lnTo>
                  <a:pt x="492" y="783"/>
                </a:lnTo>
                <a:lnTo>
                  <a:pt x="486" y="766"/>
                </a:lnTo>
                <a:lnTo>
                  <a:pt x="480" y="754"/>
                </a:lnTo>
                <a:lnTo>
                  <a:pt x="480" y="706"/>
                </a:lnTo>
                <a:lnTo>
                  <a:pt x="475" y="700"/>
                </a:lnTo>
                <a:lnTo>
                  <a:pt x="469" y="688"/>
                </a:lnTo>
                <a:lnTo>
                  <a:pt x="451" y="688"/>
                </a:lnTo>
                <a:lnTo>
                  <a:pt x="451" y="694"/>
                </a:lnTo>
                <a:lnTo>
                  <a:pt x="439" y="706"/>
                </a:lnTo>
                <a:lnTo>
                  <a:pt x="439" y="736"/>
                </a:lnTo>
                <a:lnTo>
                  <a:pt x="433" y="742"/>
                </a:lnTo>
                <a:lnTo>
                  <a:pt x="427" y="742"/>
                </a:lnTo>
                <a:lnTo>
                  <a:pt x="421" y="736"/>
                </a:lnTo>
                <a:lnTo>
                  <a:pt x="421" y="700"/>
                </a:lnTo>
                <a:lnTo>
                  <a:pt x="427" y="688"/>
                </a:lnTo>
                <a:lnTo>
                  <a:pt x="439" y="677"/>
                </a:lnTo>
                <a:lnTo>
                  <a:pt x="463" y="665"/>
                </a:lnTo>
                <a:lnTo>
                  <a:pt x="475" y="671"/>
                </a:lnTo>
                <a:lnTo>
                  <a:pt x="486" y="683"/>
                </a:lnTo>
                <a:lnTo>
                  <a:pt x="492" y="694"/>
                </a:lnTo>
                <a:lnTo>
                  <a:pt x="498" y="700"/>
                </a:lnTo>
                <a:lnTo>
                  <a:pt x="498" y="754"/>
                </a:lnTo>
                <a:lnTo>
                  <a:pt x="510" y="766"/>
                </a:lnTo>
                <a:lnTo>
                  <a:pt x="516" y="778"/>
                </a:lnTo>
                <a:lnTo>
                  <a:pt x="528" y="760"/>
                </a:lnTo>
                <a:lnTo>
                  <a:pt x="540" y="736"/>
                </a:lnTo>
                <a:lnTo>
                  <a:pt x="546" y="736"/>
                </a:lnTo>
                <a:lnTo>
                  <a:pt x="558" y="724"/>
                </a:lnTo>
                <a:lnTo>
                  <a:pt x="564" y="724"/>
                </a:lnTo>
                <a:lnTo>
                  <a:pt x="564" y="736"/>
                </a:lnTo>
                <a:close/>
                <a:moveTo>
                  <a:pt x="564" y="736"/>
                </a:moveTo>
                <a:lnTo>
                  <a:pt x="564" y="736"/>
                </a:lnTo>
                <a:close/>
                <a:moveTo>
                  <a:pt x="611" y="677"/>
                </a:moveTo>
                <a:lnTo>
                  <a:pt x="593" y="694"/>
                </a:lnTo>
                <a:lnTo>
                  <a:pt x="575" y="700"/>
                </a:lnTo>
                <a:lnTo>
                  <a:pt x="570" y="700"/>
                </a:lnTo>
                <a:lnTo>
                  <a:pt x="570" y="694"/>
                </a:lnTo>
                <a:lnTo>
                  <a:pt x="564" y="688"/>
                </a:lnTo>
                <a:lnTo>
                  <a:pt x="570" y="683"/>
                </a:lnTo>
                <a:lnTo>
                  <a:pt x="581" y="683"/>
                </a:lnTo>
                <a:lnTo>
                  <a:pt x="599" y="665"/>
                </a:lnTo>
                <a:lnTo>
                  <a:pt x="605" y="653"/>
                </a:lnTo>
                <a:lnTo>
                  <a:pt x="599" y="641"/>
                </a:lnTo>
                <a:lnTo>
                  <a:pt x="593" y="623"/>
                </a:lnTo>
                <a:lnTo>
                  <a:pt x="581" y="611"/>
                </a:lnTo>
                <a:lnTo>
                  <a:pt x="575" y="611"/>
                </a:lnTo>
                <a:lnTo>
                  <a:pt x="564" y="605"/>
                </a:lnTo>
                <a:lnTo>
                  <a:pt x="552" y="611"/>
                </a:lnTo>
                <a:lnTo>
                  <a:pt x="540" y="623"/>
                </a:lnTo>
                <a:lnTo>
                  <a:pt x="540" y="671"/>
                </a:lnTo>
                <a:lnTo>
                  <a:pt x="528" y="671"/>
                </a:lnTo>
                <a:lnTo>
                  <a:pt x="516" y="659"/>
                </a:lnTo>
                <a:lnTo>
                  <a:pt x="498" y="647"/>
                </a:lnTo>
                <a:lnTo>
                  <a:pt x="486" y="635"/>
                </a:lnTo>
                <a:lnTo>
                  <a:pt x="480" y="635"/>
                </a:lnTo>
                <a:lnTo>
                  <a:pt x="469" y="623"/>
                </a:lnTo>
                <a:lnTo>
                  <a:pt x="486" y="605"/>
                </a:lnTo>
                <a:lnTo>
                  <a:pt x="486" y="599"/>
                </a:lnTo>
                <a:lnTo>
                  <a:pt x="492" y="588"/>
                </a:lnTo>
                <a:lnTo>
                  <a:pt x="498" y="582"/>
                </a:lnTo>
                <a:lnTo>
                  <a:pt x="498" y="576"/>
                </a:lnTo>
                <a:lnTo>
                  <a:pt x="504" y="576"/>
                </a:lnTo>
                <a:lnTo>
                  <a:pt x="504" y="570"/>
                </a:lnTo>
                <a:lnTo>
                  <a:pt x="510" y="564"/>
                </a:lnTo>
                <a:lnTo>
                  <a:pt x="510" y="558"/>
                </a:lnTo>
                <a:lnTo>
                  <a:pt x="522" y="558"/>
                </a:lnTo>
                <a:lnTo>
                  <a:pt x="528" y="570"/>
                </a:lnTo>
                <a:lnTo>
                  <a:pt x="516" y="582"/>
                </a:lnTo>
                <a:lnTo>
                  <a:pt x="516" y="588"/>
                </a:lnTo>
                <a:lnTo>
                  <a:pt x="510" y="593"/>
                </a:lnTo>
                <a:lnTo>
                  <a:pt x="504" y="605"/>
                </a:lnTo>
                <a:lnTo>
                  <a:pt x="492" y="617"/>
                </a:lnTo>
                <a:lnTo>
                  <a:pt x="516" y="641"/>
                </a:lnTo>
                <a:lnTo>
                  <a:pt x="528" y="605"/>
                </a:lnTo>
                <a:lnTo>
                  <a:pt x="540" y="593"/>
                </a:lnTo>
                <a:lnTo>
                  <a:pt x="558" y="588"/>
                </a:lnTo>
                <a:lnTo>
                  <a:pt x="593" y="599"/>
                </a:lnTo>
                <a:lnTo>
                  <a:pt x="611" y="611"/>
                </a:lnTo>
                <a:lnTo>
                  <a:pt x="623" y="659"/>
                </a:lnTo>
                <a:lnTo>
                  <a:pt x="611" y="677"/>
                </a:lnTo>
                <a:close/>
                <a:moveTo>
                  <a:pt x="611" y="677"/>
                </a:moveTo>
                <a:lnTo>
                  <a:pt x="611" y="677"/>
                </a:lnTo>
                <a:close/>
                <a:moveTo>
                  <a:pt x="754" y="469"/>
                </a:moveTo>
                <a:lnTo>
                  <a:pt x="748" y="475"/>
                </a:lnTo>
                <a:lnTo>
                  <a:pt x="742" y="469"/>
                </a:lnTo>
                <a:lnTo>
                  <a:pt x="730" y="463"/>
                </a:lnTo>
                <a:lnTo>
                  <a:pt x="712" y="457"/>
                </a:lnTo>
                <a:lnTo>
                  <a:pt x="688" y="445"/>
                </a:lnTo>
                <a:lnTo>
                  <a:pt x="682" y="445"/>
                </a:lnTo>
                <a:lnTo>
                  <a:pt x="676" y="439"/>
                </a:lnTo>
                <a:lnTo>
                  <a:pt x="670" y="439"/>
                </a:lnTo>
                <a:lnTo>
                  <a:pt x="665" y="445"/>
                </a:lnTo>
                <a:lnTo>
                  <a:pt x="665" y="469"/>
                </a:lnTo>
                <a:lnTo>
                  <a:pt x="676" y="481"/>
                </a:lnTo>
                <a:lnTo>
                  <a:pt x="724" y="504"/>
                </a:lnTo>
                <a:lnTo>
                  <a:pt x="724" y="516"/>
                </a:lnTo>
                <a:lnTo>
                  <a:pt x="718" y="522"/>
                </a:lnTo>
                <a:lnTo>
                  <a:pt x="712" y="516"/>
                </a:lnTo>
                <a:lnTo>
                  <a:pt x="700" y="510"/>
                </a:lnTo>
                <a:lnTo>
                  <a:pt x="682" y="504"/>
                </a:lnTo>
                <a:lnTo>
                  <a:pt x="665" y="492"/>
                </a:lnTo>
                <a:lnTo>
                  <a:pt x="653" y="487"/>
                </a:lnTo>
                <a:lnTo>
                  <a:pt x="647" y="481"/>
                </a:lnTo>
                <a:lnTo>
                  <a:pt x="641" y="481"/>
                </a:lnTo>
                <a:lnTo>
                  <a:pt x="641" y="498"/>
                </a:lnTo>
                <a:lnTo>
                  <a:pt x="647" y="510"/>
                </a:lnTo>
                <a:lnTo>
                  <a:pt x="647" y="516"/>
                </a:lnTo>
                <a:lnTo>
                  <a:pt x="670" y="540"/>
                </a:lnTo>
                <a:lnTo>
                  <a:pt x="682" y="540"/>
                </a:lnTo>
                <a:lnTo>
                  <a:pt x="688" y="546"/>
                </a:lnTo>
                <a:lnTo>
                  <a:pt x="688" y="558"/>
                </a:lnTo>
                <a:lnTo>
                  <a:pt x="676" y="564"/>
                </a:lnTo>
                <a:lnTo>
                  <a:pt x="665" y="552"/>
                </a:lnTo>
                <a:lnTo>
                  <a:pt x="659" y="552"/>
                </a:lnTo>
                <a:lnTo>
                  <a:pt x="647" y="546"/>
                </a:lnTo>
                <a:lnTo>
                  <a:pt x="635" y="534"/>
                </a:lnTo>
                <a:lnTo>
                  <a:pt x="629" y="534"/>
                </a:lnTo>
                <a:lnTo>
                  <a:pt x="611" y="516"/>
                </a:lnTo>
                <a:lnTo>
                  <a:pt x="599" y="510"/>
                </a:lnTo>
                <a:lnTo>
                  <a:pt x="599" y="498"/>
                </a:lnTo>
                <a:lnTo>
                  <a:pt x="617" y="498"/>
                </a:lnTo>
                <a:lnTo>
                  <a:pt x="617" y="504"/>
                </a:lnTo>
                <a:lnTo>
                  <a:pt x="623" y="504"/>
                </a:lnTo>
                <a:lnTo>
                  <a:pt x="629" y="510"/>
                </a:lnTo>
                <a:lnTo>
                  <a:pt x="623" y="498"/>
                </a:lnTo>
                <a:lnTo>
                  <a:pt x="623" y="469"/>
                </a:lnTo>
                <a:lnTo>
                  <a:pt x="635" y="463"/>
                </a:lnTo>
                <a:lnTo>
                  <a:pt x="647" y="463"/>
                </a:lnTo>
                <a:lnTo>
                  <a:pt x="647" y="439"/>
                </a:lnTo>
                <a:lnTo>
                  <a:pt x="653" y="427"/>
                </a:lnTo>
                <a:lnTo>
                  <a:pt x="665" y="421"/>
                </a:lnTo>
                <a:lnTo>
                  <a:pt x="676" y="421"/>
                </a:lnTo>
                <a:lnTo>
                  <a:pt x="682" y="427"/>
                </a:lnTo>
                <a:lnTo>
                  <a:pt x="700" y="433"/>
                </a:lnTo>
                <a:lnTo>
                  <a:pt x="718" y="445"/>
                </a:lnTo>
                <a:lnTo>
                  <a:pt x="748" y="457"/>
                </a:lnTo>
                <a:lnTo>
                  <a:pt x="754" y="457"/>
                </a:lnTo>
                <a:lnTo>
                  <a:pt x="754" y="469"/>
                </a:lnTo>
                <a:close/>
                <a:moveTo>
                  <a:pt x="754" y="469"/>
                </a:moveTo>
                <a:lnTo>
                  <a:pt x="754" y="469"/>
                </a:lnTo>
                <a:close/>
                <a:moveTo>
                  <a:pt x="789" y="403"/>
                </a:moveTo>
                <a:lnTo>
                  <a:pt x="777" y="415"/>
                </a:lnTo>
                <a:lnTo>
                  <a:pt x="760" y="427"/>
                </a:lnTo>
                <a:lnTo>
                  <a:pt x="742" y="427"/>
                </a:lnTo>
                <a:lnTo>
                  <a:pt x="724" y="421"/>
                </a:lnTo>
                <a:lnTo>
                  <a:pt x="712" y="409"/>
                </a:lnTo>
                <a:lnTo>
                  <a:pt x="700" y="392"/>
                </a:lnTo>
                <a:lnTo>
                  <a:pt x="694" y="368"/>
                </a:lnTo>
                <a:lnTo>
                  <a:pt x="700" y="350"/>
                </a:lnTo>
                <a:lnTo>
                  <a:pt x="712" y="344"/>
                </a:lnTo>
                <a:lnTo>
                  <a:pt x="718" y="332"/>
                </a:lnTo>
                <a:lnTo>
                  <a:pt x="730" y="326"/>
                </a:lnTo>
                <a:lnTo>
                  <a:pt x="742" y="332"/>
                </a:lnTo>
                <a:lnTo>
                  <a:pt x="748" y="344"/>
                </a:lnTo>
                <a:lnTo>
                  <a:pt x="754" y="350"/>
                </a:lnTo>
                <a:lnTo>
                  <a:pt x="754" y="362"/>
                </a:lnTo>
                <a:lnTo>
                  <a:pt x="748" y="374"/>
                </a:lnTo>
                <a:lnTo>
                  <a:pt x="748" y="415"/>
                </a:lnTo>
                <a:lnTo>
                  <a:pt x="754" y="415"/>
                </a:lnTo>
                <a:lnTo>
                  <a:pt x="760" y="409"/>
                </a:lnTo>
                <a:lnTo>
                  <a:pt x="771" y="403"/>
                </a:lnTo>
                <a:lnTo>
                  <a:pt x="777" y="397"/>
                </a:lnTo>
                <a:lnTo>
                  <a:pt x="777" y="392"/>
                </a:lnTo>
                <a:lnTo>
                  <a:pt x="783" y="380"/>
                </a:lnTo>
                <a:lnTo>
                  <a:pt x="783" y="368"/>
                </a:lnTo>
                <a:lnTo>
                  <a:pt x="777" y="362"/>
                </a:lnTo>
                <a:lnTo>
                  <a:pt x="783" y="356"/>
                </a:lnTo>
                <a:lnTo>
                  <a:pt x="795" y="356"/>
                </a:lnTo>
                <a:lnTo>
                  <a:pt x="801" y="362"/>
                </a:lnTo>
                <a:lnTo>
                  <a:pt x="801" y="380"/>
                </a:lnTo>
                <a:lnTo>
                  <a:pt x="789" y="403"/>
                </a:lnTo>
                <a:close/>
                <a:moveTo>
                  <a:pt x="789" y="403"/>
                </a:moveTo>
                <a:lnTo>
                  <a:pt x="789" y="403"/>
                </a:lnTo>
                <a:close/>
                <a:moveTo>
                  <a:pt x="718" y="362"/>
                </a:moveTo>
                <a:lnTo>
                  <a:pt x="712" y="374"/>
                </a:lnTo>
                <a:lnTo>
                  <a:pt x="712" y="380"/>
                </a:lnTo>
                <a:lnTo>
                  <a:pt x="718" y="392"/>
                </a:lnTo>
                <a:lnTo>
                  <a:pt x="730" y="403"/>
                </a:lnTo>
                <a:lnTo>
                  <a:pt x="736" y="374"/>
                </a:lnTo>
                <a:lnTo>
                  <a:pt x="736" y="344"/>
                </a:lnTo>
                <a:lnTo>
                  <a:pt x="718" y="362"/>
                </a:lnTo>
                <a:close/>
                <a:moveTo>
                  <a:pt x="718" y="362"/>
                </a:moveTo>
                <a:lnTo>
                  <a:pt x="718" y="362"/>
                </a:lnTo>
                <a:close/>
                <a:moveTo>
                  <a:pt x="789" y="255"/>
                </a:moveTo>
                <a:lnTo>
                  <a:pt x="783" y="255"/>
                </a:lnTo>
                <a:lnTo>
                  <a:pt x="783" y="267"/>
                </a:lnTo>
                <a:lnTo>
                  <a:pt x="777" y="273"/>
                </a:lnTo>
                <a:lnTo>
                  <a:pt x="825" y="302"/>
                </a:lnTo>
                <a:lnTo>
                  <a:pt x="843" y="320"/>
                </a:lnTo>
                <a:lnTo>
                  <a:pt x="843" y="326"/>
                </a:lnTo>
                <a:lnTo>
                  <a:pt x="837" y="332"/>
                </a:lnTo>
                <a:lnTo>
                  <a:pt x="831" y="326"/>
                </a:lnTo>
                <a:lnTo>
                  <a:pt x="825" y="326"/>
                </a:lnTo>
                <a:lnTo>
                  <a:pt x="813" y="314"/>
                </a:lnTo>
                <a:lnTo>
                  <a:pt x="765" y="291"/>
                </a:lnTo>
                <a:lnTo>
                  <a:pt x="748" y="308"/>
                </a:lnTo>
                <a:lnTo>
                  <a:pt x="742" y="308"/>
                </a:lnTo>
                <a:lnTo>
                  <a:pt x="742" y="302"/>
                </a:lnTo>
                <a:lnTo>
                  <a:pt x="736" y="302"/>
                </a:lnTo>
                <a:lnTo>
                  <a:pt x="736" y="297"/>
                </a:lnTo>
                <a:lnTo>
                  <a:pt x="742" y="297"/>
                </a:lnTo>
                <a:lnTo>
                  <a:pt x="754" y="279"/>
                </a:lnTo>
                <a:lnTo>
                  <a:pt x="748" y="279"/>
                </a:lnTo>
                <a:lnTo>
                  <a:pt x="736" y="267"/>
                </a:lnTo>
                <a:lnTo>
                  <a:pt x="730" y="267"/>
                </a:lnTo>
                <a:lnTo>
                  <a:pt x="724" y="261"/>
                </a:lnTo>
                <a:lnTo>
                  <a:pt x="724" y="255"/>
                </a:lnTo>
                <a:lnTo>
                  <a:pt x="730" y="255"/>
                </a:lnTo>
                <a:lnTo>
                  <a:pt x="736" y="249"/>
                </a:lnTo>
                <a:lnTo>
                  <a:pt x="742" y="255"/>
                </a:lnTo>
                <a:lnTo>
                  <a:pt x="754" y="255"/>
                </a:lnTo>
                <a:lnTo>
                  <a:pt x="754" y="261"/>
                </a:lnTo>
                <a:lnTo>
                  <a:pt x="760" y="261"/>
                </a:lnTo>
                <a:lnTo>
                  <a:pt x="765" y="255"/>
                </a:lnTo>
                <a:lnTo>
                  <a:pt x="765" y="249"/>
                </a:lnTo>
                <a:lnTo>
                  <a:pt x="771" y="243"/>
                </a:lnTo>
                <a:lnTo>
                  <a:pt x="777" y="243"/>
                </a:lnTo>
                <a:lnTo>
                  <a:pt x="783" y="237"/>
                </a:lnTo>
                <a:lnTo>
                  <a:pt x="783" y="243"/>
                </a:lnTo>
                <a:lnTo>
                  <a:pt x="789" y="243"/>
                </a:lnTo>
                <a:lnTo>
                  <a:pt x="789" y="255"/>
                </a:lnTo>
                <a:close/>
                <a:moveTo>
                  <a:pt x="789" y="255"/>
                </a:moveTo>
                <a:lnTo>
                  <a:pt x="789" y="255"/>
                </a:lnTo>
                <a:close/>
                <a:moveTo>
                  <a:pt x="896" y="243"/>
                </a:moveTo>
                <a:lnTo>
                  <a:pt x="884" y="255"/>
                </a:lnTo>
                <a:lnTo>
                  <a:pt x="849" y="267"/>
                </a:lnTo>
                <a:lnTo>
                  <a:pt x="831" y="261"/>
                </a:lnTo>
                <a:lnTo>
                  <a:pt x="807" y="225"/>
                </a:lnTo>
                <a:lnTo>
                  <a:pt x="801" y="207"/>
                </a:lnTo>
                <a:lnTo>
                  <a:pt x="807" y="190"/>
                </a:lnTo>
                <a:lnTo>
                  <a:pt x="819" y="178"/>
                </a:lnTo>
                <a:lnTo>
                  <a:pt x="843" y="166"/>
                </a:lnTo>
                <a:lnTo>
                  <a:pt x="855" y="178"/>
                </a:lnTo>
                <a:lnTo>
                  <a:pt x="860" y="190"/>
                </a:lnTo>
                <a:lnTo>
                  <a:pt x="860" y="196"/>
                </a:lnTo>
                <a:lnTo>
                  <a:pt x="855" y="213"/>
                </a:lnTo>
                <a:lnTo>
                  <a:pt x="855" y="249"/>
                </a:lnTo>
                <a:lnTo>
                  <a:pt x="860" y="249"/>
                </a:lnTo>
                <a:lnTo>
                  <a:pt x="866" y="243"/>
                </a:lnTo>
                <a:lnTo>
                  <a:pt x="878" y="237"/>
                </a:lnTo>
                <a:lnTo>
                  <a:pt x="884" y="231"/>
                </a:lnTo>
                <a:lnTo>
                  <a:pt x="884" y="225"/>
                </a:lnTo>
                <a:lnTo>
                  <a:pt x="890" y="219"/>
                </a:lnTo>
                <a:lnTo>
                  <a:pt x="890" y="190"/>
                </a:lnTo>
                <a:lnTo>
                  <a:pt x="902" y="190"/>
                </a:lnTo>
                <a:lnTo>
                  <a:pt x="908" y="202"/>
                </a:lnTo>
                <a:lnTo>
                  <a:pt x="908" y="213"/>
                </a:lnTo>
                <a:lnTo>
                  <a:pt x="902" y="231"/>
                </a:lnTo>
                <a:lnTo>
                  <a:pt x="896" y="243"/>
                </a:lnTo>
                <a:close/>
                <a:moveTo>
                  <a:pt x="896" y="243"/>
                </a:moveTo>
                <a:lnTo>
                  <a:pt x="896" y="243"/>
                </a:lnTo>
                <a:close/>
                <a:moveTo>
                  <a:pt x="825" y="196"/>
                </a:moveTo>
                <a:lnTo>
                  <a:pt x="819" y="207"/>
                </a:lnTo>
                <a:lnTo>
                  <a:pt x="819" y="219"/>
                </a:lnTo>
                <a:lnTo>
                  <a:pt x="831" y="231"/>
                </a:lnTo>
                <a:lnTo>
                  <a:pt x="837" y="243"/>
                </a:lnTo>
                <a:lnTo>
                  <a:pt x="843" y="207"/>
                </a:lnTo>
                <a:lnTo>
                  <a:pt x="843" y="184"/>
                </a:lnTo>
                <a:lnTo>
                  <a:pt x="837" y="190"/>
                </a:lnTo>
                <a:lnTo>
                  <a:pt x="825" y="196"/>
                </a:lnTo>
                <a:close/>
                <a:moveTo>
                  <a:pt x="825" y="196"/>
                </a:moveTo>
                <a:lnTo>
                  <a:pt x="825" y="196"/>
                </a:lnTo>
                <a:close/>
                <a:moveTo>
                  <a:pt x="908" y="95"/>
                </a:moveTo>
                <a:lnTo>
                  <a:pt x="914" y="101"/>
                </a:lnTo>
                <a:lnTo>
                  <a:pt x="902" y="112"/>
                </a:lnTo>
                <a:lnTo>
                  <a:pt x="896" y="107"/>
                </a:lnTo>
                <a:lnTo>
                  <a:pt x="884" y="101"/>
                </a:lnTo>
                <a:lnTo>
                  <a:pt x="884" y="112"/>
                </a:lnTo>
                <a:lnTo>
                  <a:pt x="878" y="124"/>
                </a:lnTo>
                <a:lnTo>
                  <a:pt x="890" y="148"/>
                </a:lnTo>
                <a:lnTo>
                  <a:pt x="932" y="172"/>
                </a:lnTo>
                <a:lnTo>
                  <a:pt x="938" y="184"/>
                </a:lnTo>
                <a:lnTo>
                  <a:pt x="932" y="190"/>
                </a:lnTo>
                <a:lnTo>
                  <a:pt x="920" y="190"/>
                </a:lnTo>
                <a:lnTo>
                  <a:pt x="866" y="154"/>
                </a:lnTo>
                <a:lnTo>
                  <a:pt x="860" y="148"/>
                </a:lnTo>
                <a:lnTo>
                  <a:pt x="855" y="148"/>
                </a:lnTo>
                <a:lnTo>
                  <a:pt x="855" y="142"/>
                </a:lnTo>
                <a:lnTo>
                  <a:pt x="849" y="136"/>
                </a:lnTo>
                <a:lnTo>
                  <a:pt x="849" y="130"/>
                </a:lnTo>
                <a:lnTo>
                  <a:pt x="855" y="124"/>
                </a:lnTo>
                <a:lnTo>
                  <a:pt x="866" y="130"/>
                </a:lnTo>
                <a:lnTo>
                  <a:pt x="866" y="112"/>
                </a:lnTo>
                <a:lnTo>
                  <a:pt x="872" y="89"/>
                </a:lnTo>
                <a:lnTo>
                  <a:pt x="878" y="83"/>
                </a:lnTo>
                <a:lnTo>
                  <a:pt x="896" y="83"/>
                </a:lnTo>
                <a:lnTo>
                  <a:pt x="908" y="95"/>
                </a:lnTo>
                <a:close/>
                <a:moveTo>
                  <a:pt x="908" y="95"/>
                </a:moveTo>
                <a:lnTo>
                  <a:pt x="908" y="95"/>
                </a:lnTo>
                <a:close/>
                <a:moveTo>
                  <a:pt x="949" y="17"/>
                </a:moveTo>
                <a:lnTo>
                  <a:pt x="949" y="23"/>
                </a:lnTo>
                <a:lnTo>
                  <a:pt x="938" y="23"/>
                </a:lnTo>
                <a:lnTo>
                  <a:pt x="932" y="17"/>
                </a:lnTo>
                <a:lnTo>
                  <a:pt x="932" y="29"/>
                </a:lnTo>
                <a:lnTo>
                  <a:pt x="926" y="41"/>
                </a:lnTo>
                <a:lnTo>
                  <a:pt x="926" y="53"/>
                </a:lnTo>
                <a:lnTo>
                  <a:pt x="932" y="65"/>
                </a:lnTo>
                <a:lnTo>
                  <a:pt x="932" y="59"/>
                </a:lnTo>
                <a:lnTo>
                  <a:pt x="938" y="59"/>
                </a:lnTo>
                <a:lnTo>
                  <a:pt x="961" y="35"/>
                </a:lnTo>
                <a:lnTo>
                  <a:pt x="979" y="35"/>
                </a:lnTo>
                <a:lnTo>
                  <a:pt x="997" y="41"/>
                </a:lnTo>
                <a:lnTo>
                  <a:pt x="1003" y="53"/>
                </a:lnTo>
                <a:lnTo>
                  <a:pt x="1003" y="77"/>
                </a:lnTo>
                <a:lnTo>
                  <a:pt x="991" y="101"/>
                </a:lnTo>
                <a:lnTo>
                  <a:pt x="979" y="107"/>
                </a:lnTo>
                <a:lnTo>
                  <a:pt x="973" y="112"/>
                </a:lnTo>
                <a:lnTo>
                  <a:pt x="955" y="112"/>
                </a:lnTo>
                <a:lnTo>
                  <a:pt x="955" y="101"/>
                </a:lnTo>
                <a:lnTo>
                  <a:pt x="961" y="95"/>
                </a:lnTo>
                <a:lnTo>
                  <a:pt x="967" y="95"/>
                </a:lnTo>
                <a:lnTo>
                  <a:pt x="985" y="77"/>
                </a:lnTo>
                <a:lnTo>
                  <a:pt x="985" y="53"/>
                </a:lnTo>
                <a:lnTo>
                  <a:pt x="973" y="53"/>
                </a:lnTo>
                <a:lnTo>
                  <a:pt x="961" y="59"/>
                </a:lnTo>
                <a:lnTo>
                  <a:pt x="955" y="71"/>
                </a:lnTo>
                <a:lnTo>
                  <a:pt x="949" y="77"/>
                </a:lnTo>
                <a:lnTo>
                  <a:pt x="938" y="77"/>
                </a:lnTo>
                <a:lnTo>
                  <a:pt x="932" y="83"/>
                </a:lnTo>
                <a:lnTo>
                  <a:pt x="920" y="77"/>
                </a:lnTo>
                <a:lnTo>
                  <a:pt x="908" y="65"/>
                </a:lnTo>
                <a:lnTo>
                  <a:pt x="908" y="41"/>
                </a:lnTo>
                <a:lnTo>
                  <a:pt x="914" y="29"/>
                </a:lnTo>
                <a:lnTo>
                  <a:pt x="914" y="17"/>
                </a:lnTo>
                <a:lnTo>
                  <a:pt x="920" y="12"/>
                </a:lnTo>
                <a:lnTo>
                  <a:pt x="920" y="0"/>
                </a:lnTo>
                <a:lnTo>
                  <a:pt x="938" y="0"/>
                </a:lnTo>
                <a:lnTo>
                  <a:pt x="938" y="6"/>
                </a:lnTo>
                <a:lnTo>
                  <a:pt x="949" y="6"/>
                </a:lnTo>
                <a:lnTo>
                  <a:pt x="949" y="17"/>
                </a:lnTo>
                <a:close/>
                <a:moveTo>
                  <a:pt x="949" y="17"/>
                </a:moveTo>
                <a:lnTo>
                  <a:pt x="94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548600" y="5573880"/>
            <a:ext cx="373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house: 7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7756560" y="2311560"/>
            <a:ext cx="320760" cy="2573280"/>
          </a:xfrm>
          <a:custGeom>
            <a:avLst/>
            <a:gdLst>
              <a:gd name="textAreaLeft" fmla="*/ 0 w 320760"/>
              <a:gd name="textAreaRight" fmla="*/ 321120 w 320760"/>
              <a:gd name="textAreaTop" fmla="*/ 0 h 2573280"/>
              <a:gd name="textAreaBottom" fmla="*/ 2573640 h 2573280"/>
            </a:gdLst>
            <a:ahLst/>
            <a:rect l="textAreaLeft" t="textAreaTop" r="textAreaRight" b="textAreaBottom"/>
            <a:pathLst>
              <a:path w="202" h="1621">
                <a:moveTo>
                  <a:pt x="184" y="125"/>
                </a:moveTo>
                <a:lnTo>
                  <a:pt x="143" y="125"/>
                </a:lnTo>
                <a:lnTo>
                  <a:pt x="125" y="119"/>
                </a:lnTo>
                <a:lnTo>
                  <a:pt x="48" y="119"/>
                </a:lnTo>
                <a:lnTo>
                  <a:pt x="48" y="107"/>
                </a:lnTo>
                <a:lnTo>
                  <a:pt x="66" y="107"/>
                </a:lnTo>
                <a:lnTo>
                  <a:pt x="78" y="101"/>
                </a:lnTo>
                <a:lnTo>
                  <a:pt x="113" y="101"/>
                </a:lnTo>
                <a:lnTo>
                  <a:pt x="113" y="83"/>
                </a:lnTo>
                <a:lnTo>
                  <a:pt x="107" y="66"/>
                </a:lnTo>
                <a:lnTo>
                  <a:pt x="101" y="24"/>
                </a:lnTo>
                <a:lnTo>
                  <a:pt x="66" y="24"/>
                </a:lnTo>
                <a:lnTo>
                  <a:pt x="54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lnTo>
                  <a:pt x="66" y="6"/>
                </a:lnTo>
                <a:lnTo>
                  <a:pt x="190" y="6"/>
                </a:lnTo>
                <a:lnTo>
                  <a:pt x="196" y="12"/>
                </a:lnTo>
                <a:lnTo>
                  <a:pt x="196" y="24"/>
                </a:lnTo>
                <a:lnTo>
                  <a:pt x="119" y="24"/>
                </a:lnTo>
                <a:lnTo>
                  <a:pt x="125" y="66"/>
                </a:lnTo>
                <a:lnTo>
                  <a:pt x="131" y="83"/>
                </a:lnTo>
                <a:lnTo>
                  <a:pt x="131" y="101"/>
                </a:lnTo>
                <a:lnTo>
                  <a:pt x="149" y="107"/>
                </a:lnTo>
                <a:lnTo>
                  <a:pt x="184" y="107"/>
                </a:lnTo>
                <a:lnTo>
                  <a:pt x="190" y="113"/>
                </a:lnTo>
                <a:lnTo>
                  <a:pt x="196" y="113"/>
                </a:lnTo>
                <a:lnTo>
                  <a:pt x="196" y="119"/>
                </a:lnTo>
                <a:lnTo>
                  <a:pt x="190" y="125"/>
                </a:lnTo>
                <a:lnTo>
                  <a:pt x="184" y="125"/>
                </a:lnTo>
                <a:close/>
                <a:moveTo>
                  <a:pt x="184" y="125"/>
                </a:moveTo>
                <a:lnTo>
                  <a:pt x="184" y="125"/>
                </a:lnTo>
                <a:close/>
                <a:moveTo>
                  <a:pt x="48" y="196"/>
                </a:moveTo>
                <a:lnTo>
                  <a:pt x="54" y="173"/>
                </a:lnTo>
                <a:lnTo>
                  <a:pt x="60" y="161"/>
                </a:lnTo>
                <a:lnTo>
                  <a:pt x="72" y="149"/>
                </a:lnTo>
                <a:lnTo>
                  <a:pt x="89" y="143"/>
                </a:lnTo>
                <a:lnTo>
                  <a:pt x="113" y="149"/>
                </a:lnTo>
                <a:lnTo>
                  <a:pt x="131" y="155"/>
                </a:lnTo>
                <a:lnTo>
                  <a:pt x="143" y="173"/>
                </a:lnTo>
                <a:lnTo>
                  <a:pt x="149" y="190"/>
                </a:lnTo>
                <a:lnTo>
                  <a:pt x="149" y="202"/>
                </a:lnTo>
                <a:lnTo>
                  <a:pt x="137" y="226"/>
                </a:lnTo>
                <a:lnTo>
                  <a:pt x="119" y="226"/>
                </a:lnTo>
                <a:lnTo>
                  <a:pt x="107" y="220"/>
                </a:lnTo>
                <a:lnTo>
                  <a:pt x="78" y="161"/>
                </a:lnTo>
                <a:lnTo>
                  <a:pt x="72" y="173"/>
                </a:lnTo>
                <a:lnTo>
                  <a:pt x="66" y="178"/>
                </a:lnTo>
                <a:lnTo>
                  <a:pt x="66" y="208"/>
                </a:lnTo>
                <a:lnTo>
                  <a:pt x="78" y="220"/>
                </a:lnTo>
                <a:lnTo>
                  <a:pt x="78" y="238"/>
                </a:lnTo>
                <a:lnTo>
                  <a:pt x="72" y="238"/>
                </a:lnTo>
                <a:lnTo>
                  <a:pt x="54" y="220"/>
                </a:lnTo>
                <a:lnTo>
                  <a:pt x="48" y="208"/>
                </a:lnTo>
                <a:lnTo>
                  <a:pt x="48" y="196"/>
                </a:lnTo>
                <a:close/>
                <a:moveTo>
                  <a:pt x="48" y="196"/>
                </a:moveTo>
                <a:lnTo>
                  <a:pt x="48" y="196"/>
                </a:lnTo>
                <a:close/>
                <a:moveTo>
                  <a:pt x="131" y="190"/>
                </a:moveTo>
                <a:lnTo>
                  <a:pt x="131" y="184"/>
                </a:lnTo>
                <a:lnTo>
                  <a:pt x="125" y="173"/>
                </a:lnTo>
                <a:lnTo>
                  <a:pt x="113" y="167"/>
                </a:lnTo>
                <a:lnTo>
                  <a:pt x="95" y="161"/>
                </a:lnTo>
                <a:lnTo>
                  <a:pt x="113" y="190"/>
                </a:lnTo>
                <a:lnTo>
                  <a:pt x="125" y="214"/>
                </a:lnTo>
                <a:lnTo>
                  <a:pt x="131" y="202"/>
                </a:lnTo>
                <a:lnTo>
                  <a:pt x="131" y="190"/>
                </a:lnTo>
                <a:close/>
                <a:moveTo>
                  <a:pt x="131" y="190"/>
                </a:moveTo>
                <a:lnTo>
                  <a:pt x="131" y="190"/>
                </a:lnTo>
                <a:close/>
                <a:moveTo>
                  <a:pt x="173" y="268"/>
                </a:moveTo>
                <a:lnTo>
                  <a:pt x="173" y="262"/>
                </a:lnTo>
                <a:lnTo>
                  <a:pt x="179" y="256"/>
                </a:lnTo>
                <a:lnTo>
                  <a:pt x="184" y="262"/>
                </a:lnTo>
                <a:lnTo>
                  <a:pt x="190" y="262"/>
                </a:lnTo>
                <a:lnTo>
                  <a:pt x="190" y="273"/>
                </a:lnTo>
                <a:lnTo>
                  <a:pt x="184" y="279"/>
                </a:lnTo>
                <a:lnTo>
                  <a:pt x="179" y="279"/>
                </a:lnTo>
                <a:lnTo>
                  <a:pt x="173" y="273"/>
                </a:lnTo>
                <a:lnTo>
                  <a:pt x="173" y="268"/>
                </a:lnTo>
                <a:close/>
                <a:moveTo>
                  <a:pt x="173" y="268"/>
                </a:moveTo>
                <a:lnTo>
                  <a:pt x="173" y="268"/>
                </a:lnTo>
                <a:close/>
                <a:moveTo>
                  <a:pt x="95" y="273"/>
                </a:moveTo>
                <a:lnTo>
                  <a:pt x="54" y="273"/>
                </a:lnTo>
                <a:lnTo>
                  <a:pt x="54" y="256"/>
                </a:lnTo>
                <a:lnTo>
                  <a:pt x="143" y="256"/>
                </a:lnTo>
                <a:lnTo>
                  <a:pt x="143" y="262"/>
                </a:lnTo>
                <a:lnTo>
                  <a:pt x="149" y="262"/>
                </a:lnTo>
                <a:lnTo>
                  <a:pt x="149" y="273"/>
                </a:lnTo>
                <a:lnTo>
                  <a:pt x="95" y="273"/>
                </a:lnTo>
                <a:close/>
                <a:moveTo>
                  <a:pt x="95" y="273"/>
                </a:moveTo>
                <a:lnTo>
                  <a:pt x="95" y="273"/>
                </a:lnTo>
                <a:close/>
                <a:moveTo>
                  <a:pt x="89" y="380"/>
                </a:moveTo>
                <a:lnTo>
                  <a:pt x="48" y="380"/>
                </a:lnTo>
                <a:lnTo>
                  <a:pt x="30" y="374"/>
                </a:lnTo>
                <a:lnTo>
                  <a:pt x="6" y="363"/>
                </a:lnTo>
                <a:lnTo>
                  <a:pt x="0" y="351"/>
                </a:lnTo>
                <a:lnTo>
                  <a:pt x="0" y="309"/>
                </a:lnTo>
                <a:lnTo>
                  <a:pt x="12" y="297"/>
                </a:lnTo>
                <a:lnTo>
                  <a:pt x="18" y="297"/>
                </a:lnTo>
                <a:lnTo>
                  <a:pt x="18" y="333"/>
                </a:lnTo>
                <a:lnTo>
                  <a:pt x="24" y="345"/>
                </a:lnTo>
                <a:lnTo>
                  <a:pt x="36" y="357"/>
                </a:lnTo>
                <a:lnTo>
                  <a:pt x="48" y="363"/>
                </a:lnTo>
                <a:lnTo>
                  <a:pt x="66" y="363"/>
                </a:lnTo>
                <a:lnTo>
                  <a:pt x="54" y="351"/>
                </a:lnTo>
                <a:lnTo>
                  <a:pt x="54" y="345"/>
                </a:lnTo>
                <a:lnTo>
                  <a:pt x="48" y="333"/>
                </a:lnTo>
                <a:lnTo>
                  <a:pt x="60" y="309"/>
                </a:lnTo>
                <a:lnTo>
                  <a:pt x="78" y="297"/>
                </a:lnTo>
                <a:lnTo>
                  <a:pt x="89" y="297"/>
                </a:lnTo>
                <a:lnTo>
                  <a:pt x="113" y="303"/>
                </a:lnTo>
                <a:lnTo>
                  <a:pt x="131" y="309"/>
                </a:lnTo>
                <a:lnTo>
                  <a:pt x="143" y="327"/>
                </a:lnTo>
                <a:lnTo>
                  <a:pt x="149" y="351"/>
                </a:lnTo>
                <a:lnTo>
                  <a:pt x="149" y="363"/>
                </a:lnTo>
                <a:lnTo>
                  <a:pt x="143" y="368"/>
                </a:lnTo>
                <a:lnTo>
                  <a:pt x="143" y="374"/>
                </a:lnTo>
                <a:lnTo>
                  <a:pt x="137" y="374"/>
                </a:lnTo>
                <a:lnTo>
                  <a:pt x="137" y="380"/>
                </a:lnTo>
                <a:lnTo>
                  <a:pt x="125" y="386"/>
                </a:lnTo>
                <a:lnTo>
                  <a:pt x="119" y="386"/>
                </a:lnTo>
                <a:lnTo>
                  <a:pt x="107" y="380"/>
                </a:lnTo>
                <a:lnTo>
                  <a:pt x="89" y="380"/>
                </a:lnTo>
                <a:close/>
                <a:moveTo>
                  <a:pt x="89" y="380"/>
                </a:moveTo>
                <a:lnTo>
                  <a:pt x="89" y="380"/>
                </a:lnTo>
                <a:close/>
                <a:moveTo>
                  <a:pt x="131" y="351"/>
                </a:moveTo>
                <a:lnTo>
                  <a:pt x="131" y="339"/>
                </a:lnTo>
                <a:lnTo>
                  <a:pt x="119" y="321"/>
                </a:lnTo>
                <a:lnTo>
                  <a:pt x="107" y="315"/>
                </a:lnTo>
                <a:lnTo>
                  <a:pt x="84" y="315"/>
                </a:lnTo>
                <a:lnTo>
                  <a:pt x="72" y="321"/>
                </a:lnTo>
                <a:lnTo>
                  <a:pt x="66" y="327"/>
                </a:lnTo>
                <a:lnTo>
                  <a:pt x="66" y="333"/>
                </a:lnTo>
                <a:lnTo>
                  <a:pt x="72" y="345"/>
                </a:lnTo>
                <a:lnTo>
                  <a:pt x="78" y="351"/>
                </a:lnTo>
                <a:lnTo>
                  <a:pt x="89" y="357"/>
                </a:lnTo>
                <a:lnTo>
                  <a:pt x="95" y="363"/>
                </a:lnTo>
                <a:lnTo>
                  <a:pt x="107" y="363"/>
                </a:lnTo>
                <a:lnTo>
                  <a:pt x="125" y="368"/>
                </a:lnTo>
                <a:lnTo>
                  <a:pt x="131" y="363"/>
                </a:lnTo>
                <a:lnTo>
                  <a:pt x="131" y="351"/>
                </a:lnTo>
                <a:close/>
                <a:moveTo>
                  <a:pt x="131" y="351"/>
                </a:moveTo>
                <a:lnTo>
                  <a:pt x="131" y="351"/>
                </a:lnTo>
                <a:close/>
                <a:moveTo>
                  <a:pt x="48" y="481"/>
                </a:moveTo>
                <a:lnTo>
                  <a:pt x="54" y="475"/>
                </a:lnTo>
                <a:lnTo>
                  <a:pt x="66" y="475"/>
                </a:lnTo>
                <a:lnTo>
                  <a:pt x="78" y="469"/>
                </a:lnTo>
                <a:lnTo>
                  <a:pt x="113" y="469"/>
                </a:lnTo>
                <a:lnTo>
                  <a:pt x="125" y="463"/>
                </a:lnTo>
                <a:lnTo>
                  <a:pt x="131" y="458"/>
                </a:lnTo>
                <a:lnTo>
                  <a:pt x="125" y="452"/>
                </a:lnTo>
                <a:lnTo>
                  <a:pt x="119" y="440"/>
                </a:lnTo>
                <a:lnTo>
                  <a:pt x="95" y="428"/>
                </a:lnTo>
                <a:lnTo>
                  <a:pt x="66" y="428"/>
                </a:lnTo>
                <a:lnTo>
                  <a:pt x="54" y="422"/>
                </a:lnTo>
                <a:lnTo>
                  <a:pt x="48" y="416"/>
                </a:lnTo>
                <a:lnTo>
                  <a:pt x="54" y="410"/>
                </a:lnTo>
                <a:lnTo>
                  <a:pt x="54" y="404"/>
                </a:lnTo>
                <a:lnTo>
                  <a:pt x="72" y="404"/>
                </a:lnTo>
                <a:lnTo>
                  <a:pt x="78" y="410"/>
                </a:lnTo>
                <a:lnTo>
                  <a:pt x="184" y="410"/>
                </a:lnTo>
                <a:lnTo>
                  <a:pt x="190" y="404"/>
                </a:lnTo>
                <a:lnTo>
                  <a:pt x="202" y="416"/>
                </a:lnTo>
                <a:lnTo>
                  <a:pt x="190" y="428"/>
                </a:lnTo>
                <a:lnTo>
                  <a:pt x="125" y="428"/>
                </a:lnTo>
                <a:lnTo>
                  <a:pt x="137" y="434"/>
                </a:lnTo>
                <a:lnTo>
                  <a:pt x="143" y="440"/>
                </a:lnTo>
                <a:lnTo>
                  <a:pt x="149" y="452"/>
                </a:lnTo>
                <a:lnTo>
                  <a:pt x="149" y="458"/>
                </a:lnTo>
                <a:lnTo>
                  <a:pt x="137" y="481"/>
                </a:lnTo>
                <a:lnTo>
                  <a:pt x="125" y="487"/>
                </a:lnTo>
                <a:lnTo>
                  <a:pt x="78" y="487"/>
                </a:lnTo>
                <a:lnTo>
                  <a:pt x="72" y="493"/>
                </a:lnTo>
                <a:lnTo>
                  <a:pt x="54" y="493"/>
                </a:lnTo>
                <a:lnTo>
                  <a:pt x="48" y="487"/>
                </a:lnTo>
                <a:lnTo>
                  <a:pt x="48" y="481"/>
                </a:lnTo>
                <a:close/>
                <a:moveTo>
                  <a:pt x="48" y="481"/>
                </a:moveTo>
                <a:lnTo>
                  <a:pt x="48" y="481"/>
                </a:lnTo>
                <a:close/>
                <a:moveTo>
                  <a:pt x="131" y="582"/>
                </a:moveTo>
                <a:lnTo>
                  <a:pt x="131" y="559"/>
                </a:lnTo>
                <a:lnTo>
                  <a:pt x="54" y="559"/>
                </a:lnTo>
                <a:lnTo>
                  <a:pt x="48" y="553"/>
                </a:lnTo>
                <a:lnTo>
                  <a:pt x="48" y="541"/>
                </a:lnTo>
                <a:lnTo>
                  <a:pt x="131" y="541"/>
                </a:lnTo>
                <a:lnTo>
                  <a:pt x="131" y="517"/>
                </a:lnTo>
                <a:lnTo>
                  <a:pt x="137" y="511"/>
                </a:lnTo>
                <a:lnTo>
                  <a:pt x="149" y="511"/>
                </a:lnTo>
                <a:lnTo>
                  <a:pt x="149" y="541"/>
                </a:lnTo>
                <a:lnTo>
                  <a:pt x="179" y="541"/>
                </a:lnTo>
                <a:lnTo>
                  <a:pt x="184" y="547"/>
                </a:lnTo>
                <a:lnTo>
                  <a:pt x="179" y="553"/>
                </a:lnTo>
                <a:lnTo>
                  <a:pt x="167" y="559"/>
                </a:lnTo>
                <a:lnTo>
                  <a:pt x="149" y="559"/>
                </a:lnTo>
                <a:lnTo>
                  <a:pt x="149" y="588"/>
                </a:lnTo>
                <a:lnTo>
                  <a:pt x="137" y="588"/>
                </a:lnTo>
                <a:lnTo>
                  <a:pt x="131" y="582"/>
                </a:lnTo>
                <a:close/>
                <a:moveTo>
                  <a:pt x="131" y="582"/>
                </a:moveTo>
                <a:lnTo>
                  <a:pt x="131" y="582"/>
                </a:lnTo>
                <a:close/>
                <a:moveTo>
                  <a:pt x="48" y="695"/>
                </a:moveTo>
                <a:lnTo>
                  <a:pt x="54" y="683"/>
                </a:lnTo>
                <a:lnTo>
                  <a:pt x="60" y="665"/>
                </a:lnTo>
                <a:lnTo>
                  <a:pt x="72" y="659"/>
                </a:lnTo>
                <a:lnTo>
                  <a:pt x="95" y="654"/>
                </a:lnTo>
                <a:lnTo>
                  <a:pt x="131" y="665"/>
                </a:lnTo>
                <a:lnTo>
                  <a:pt x="143" y="677"/>
                </a:lnTo>
                <a:lnTo>
                  <a:pt x="149" y="701"/>
                </a:lnTo>
                <a:lnTo>
                  <a:pt x="143" y="719"/>
                </a:lnTo>
                <a:lnTo>
                  <a:pt x="131" y="731"/>
                </a:lnTo>
                <a:lnTo>
                  <a:pt x="119" y="737"/>
                </a:lnTo>
                <a:lnTo>
                  <a:pt x="101" y="737"/>
                </a:lnTo>
                <a:lnTo>
                  <a:pt x="78" y="731"/>
                </a:lnTo>
                <a:lnTo>
                  <a:pt x="66" y="725"/>
                </a:lnTo>
                <a:lnTo>
                  <a:pt x="54" y="713"/>
                </a:lnTo>
                <a:lnTo>
                  <a:pt x="48" y="695"/>
                </a:lnTo>
                <a:close/>
                <a:moveTo>
                  <a:pt x="48" y="695"/>
                </a:moveTo>
                <a:lnTo>
                  <a:pt x="48" y="695"/>
                </a:lnTo>
                <a:close/>
                <a:moveTo>
                  <a:pt x="131" y="701"/>
                </a:moveTo>
                <a:lnTo>
                  <a:pt x="119" y="677"/>
                </a:lnTo>
                <a:lnTo>
                  <a:pt x="107" y="677"/>
                </a:lnTo>
                <a:lnTo>
                  <a:pt x="95" y="671"/>
                </a:lnTo>
                <a:lnTo>
                  <a:pt x="72" y="683"/>
                </a:lnTo>
                <a:lnTo>
                  <a:pt x="66" y="689"/>
                </a:lnTo>
                <a:lnTo>
                  <a:pt x="66" y="707"/>
                </a:lnTo>
                <a:lnTo>
                  <a:pt x="72" y="713"/>
                </a:lnTo>
                <a:lnTo>
                  <a:pt x="84" y="719"/>
                </a:lnTo>
                <a:lnTo>
                  <a:pt x="113" y="719"/>
                </a:lnTo>
                <a:lnTo>
                  <a:pt x="125" y="713"/>
                </a:lnTo>
                <a:lnTo>
                  <a:pt x="131" y="707"/>
                </a:lnTo>
                <a:lnTo>
                  <a:pt x="131" y="701"/>
                </a:lnTo>
                <a:close/>
                <a:moveTo>
                  <a:pt x="131" y="701"/>
                </a:moveTo>
                <a:lnTo>
                  <a:pt x="131" y="701"/>
                </a:lnTo>
                <a:close/>
                <a:moveTo>
                  <a:pt x="184" y="826"/>
                </a:moveTo>
                <a:lnTo>
                  <a:pt x="184" y="814"/>
                </a:lnTo>
                <a:lnTo>
                  <a:pt x="179" y="808"/>
                </a:lnTo>
                <a:lnTo>
                  <a:pt x="149" y="796"/>
                </a:lnTo>
                <a:lnTo>
                  <a:pt x="149" y="820"/>
                </a:lnTo>
                <a:lnTo>
                  <a:pt x="137" y="832"/>
                </a:lnTo>
                <a:lnTo>
                  <a:pt x="131" y="832"/>
                </a:lnTo>
                <a:lnTo>
                  <a:pt x="131" y="796"/>
                </a:lnTo>
                <a:lnTo>
                  <a:pt x="48" y="796"/>
                </a:lnTo>
                <a:lnTo>
                  <a:pt x="36" y="784"/>
                </a:lnTo>
                <a:lnTo>
                  <a:pt x="42" y="778"/>
                </a:lnTo>
                <a:lnTo>
                  <a:pt x="125" y="778"/>
                </a:lnTo>
                <a:lnTo>
                  <a:pt x="125" y="766"/>
                </a:lnTo>
                <a:lnTo>
                  <a:pt x="137" y="754"/>
                </a:lnTo>
                <a:lnTo>
                  <a:pt x="143" y="760"/>
                </a:lnTo>
                <a:lnTo>
                  <a:pt x="143" y="778"/>
                </a:lnTo>
                <a:lnTo>
                  <a:pt x="161" y="778"/>
                </a:lnTo>
                <a:lnTo>
                  <a:pt x="179" y="784"/>
                </a:lnTo>
                <a:lnTo>
                  <a:pt x="190" y="790"/>
                </a:lnTo>
                <a:lnTo>
                  <a:pt x="196" y="802"/>
                </a:lnTo>
                <a:lnTo>
                  <a:pt x="202" y="820"/>
                </a:lnTo>
                <a:lnTo>
                  <a:pt x="196" y="832"/>
                </a:lnTo>
                <a:lnTo>
                  <a:pt x="190" y="838"/>
                </a:lnTo>
                <a:lnTo>
                  <a:pt x="184" y="832"/>
                </a:lnTo>
                <a:lnTo>
                  <a:pt x="184" y="826"/>
                </a:lnTo>
                <a:close/>
                <a:moveTo>
                  <a:pt x="184" y="826"/>
                </a:moveTo>
                <a:lnTo>
                  <a:pt x="184" y="826"/>
                </a:lnTo>
                <a:close/>
                <a:moveTo>
                  <a:pt x="137" y="1028"/>
                </a:moveTo>
                <a:lnTo>
                  <a:pt x="101" y="1022"/>
                </a:lnTo>
                <a:lnTo>
                  <a:pt x="66" y="1010"/>
                </a:lnTo>
                <a:lnTo>
                  <a:pt x="60" y="1004"/>
                </a:lnTo>
                <a:lnTo>
                  <a:pt x="48" y="998"/>
                </a:lnTo>
                <a:lnTo>
                  <a:pt x="48" y="992"/>
                </a:lnTo>
                <a:lnTo>
                  <a:pt x="54" y="986"/>
                </a:lnTo>
                <a:lnTo>
                  <a:pt x="72" y="974"/>
                </a:lnTo>
                <a:lnTo>
                  <a:pt x="84" y="974"/>
                </a:lnTo>
                <a:lnTo>
                  <a:pt x="89" y="968"/>
                </a:lnTo>
                <a:lnTo>
                  <a:pt x="113" y="968"/>
                </a:lnTo>
                <a:lnTo>
                  <a:pt x="95" y="962"/>
                </a:lnTo>
                <a:lnTo>
                  <a:pt x="54" y="944"/>
                </a:lnTo>
                <a:lnTo>
                  <a:pt x="48" y="939"/>
                </a:lnTo>
                <a:lnTo>
                  <a:pt x="48" y="933"/>
                </a:lnTo>
                <a:lnTo>
                  <a:pt x="54" y="927"/>
                </a:lnTo>
                <a:lnTo>
                  <a:pt x="89" y="915"/>
                </a:lnTo>
                <a:lnTo>
                  <a:pt x="113" y="915"/>
                </a:lnTo>
                <a:lnTo>
                  <a:pt x="125" y="909"/>
                </a:lnTo>
                <a:lnTo>
                  <a:pt x="149" y="909"/>
                </a:lnTo>
                <a:lnTo>
                  <a:pt x="149" y="927"/>
                </a:lnTo>
                <a:lnTo>
                  <a:pt x="131" y="927"/>
                </a:lnTo>
                <a:lnTo>
                  <a:pt x="113" y="933"/>
                </a:lnTo>
                <a:lnTo>
                  <a:pt x="72" y="939"/>
                </a:lnTo>
                <a:lnTo>
                  <a:pt x="101" y="950"/>
                </a:lnTo>
                <a:lnTo>
                  <a:pt x="137" y="956"/>
                </a:lnTo>
                <a:lnTo>
                  <a:pt x="149" y="968"/>
                </a:lnTo>
                <a:lnTo>
                  <a:pt x="137" y="980"/>
                </a:lnTo>
                <a:lnTo>
                  <a:pt x="125" y="980"/>
                </a:lnTo>
                <a:lnTo>
                  <a:pt x="107" y="986"/>
                </a:lnTo>
                <a:lnTo>
                  <a:pt x="84" y="986"/>
                </a:lnTo>
                <a:lnTo>
                  <a:pt x="66" y="992"/>
                </a:lnTo>
                <a:lnTo>
                  <a:pt x="95" y="998"/>
                </a:lnTo>
                <a:lnTo>
                  <a:pt x="143" y="1010"/>
                </a:lnTo>
                <a:lnTo>
                  <a:pt x="149" y="1016"/>
                </a:lnTo>
                <a:lnTo>
                  <a:pt x="149" y="1022"/>
                </a:lnTo>
                <a:lnTo>
                  <a:pt x="143" y="1028"/>
                </a:lnTo>
                <a:lnTo>
                  <a:pt x="137" y="1028"/>
                </a:lnTo>
                <a:close/>
                <a:moveTo>
                  <a:pt x="137" y="1028"/>
                </a:moveTo>
                <a:lnTo>
                  <a:pt x="137" y="1028"/>
                </a:lnTo>
                <a:close/>
                <a:moveTo>
                  <a:pt x="173" y="1063"/>
                </a:moveTo>
                <a:lnTo>
                  <a:pt x="173" y="1057"/>
                </a:lnTo>
                <a:lnTo>
                  <a:pt x="179" y="1051"/>
                </a:lnTo>
                <a:lnTo>
                  <a:pt x="184" y="1051"/>
                </a:lnTo>
                <a:lnTo>
                  <a:pt x="190" y="1057"/>
                </a:lnTo>
                <a:lnTo>
                  <a:pt x="190" y="1069"/>
                </a:lnTo>
                <a:lnTo>
                  <a:pt x="184" y="1075"/>
                </a:lnTo>
                <a:lnTo>
                  <a:pt x="179" y="1075"/>
                </a:lnTo>
                <a:lnTo>
                  <a:pt x="173" y="1069"/>
                </a:lnTo>
                <a:lnTo>
                  <a:pt x="173" y="1063"/>
                </a:lnTo>
                <a:close/>
                <a:moveTo>
                  <a:pt x="173" y="1063"/>
                </a:moveTo>
                <a:lnTo>
                  <a:pt x="173" y="1063"/>
                </a:lnTo>
                <a:close/>
                <a:moveTo>
                  <a:pt x="95" y="1069"/>
                </a:moveTo>
                <a:lnTo>
                  <a:pt x="60" y="1069"/>
                </a:lnTo>
                <a:lnTo>
                  <a:pt x="54" y="1063"/>
                </a:lnTo>
                <a:lnTo>
                  <a:pt x="54" y="1051"/>
                </a:lnTo>
                <a:lnTo>
                  <a:pt x="143" y="1051"/>
                </a:lnTo>
                <a:lnTo>
                  <a:pt x="149" y="1057"/>
                </a:lnTo>
                <a:lnTo>
                  <a:pt x="149" y="1063"/>
                </a:lnTo>
                <a:lnTo>
                  <a:pt x="143" y="1069"/>
                </a:lnTo>
                <a:lnTo>
                  <a:pt x="95" y="1069"/>
                </a:lnTo>
                <a:close/>
                <a:moveTo>
                  <a:pt x="95" y="1069"/>
                </a:moveTo>
                <a:lnTo>
                  <a:pt x="95" y="1069"/>
                </a:lnTo>
                <a:close/>
                <a:moveTo>
                  <a:pt x="48" y="1170"/>
                </a:moveTo>
                <a:lnTo>
                  <a:pt x="48" y="1164"/>
                </a:lnTo>
                <a:lnTo>
                  <a:pt x="54" y="1164"/>
                </a:lnTo>
                <a:lnTo>
                  <a:pt x="78" y="1158"/>
                </a:lnTo>
                <a:lnTo>
                  <a:pt x="125" y="1158"/>
                </a:lnTo>
                <a:lnTo>
                  <a:pt x="131" y="1152"/>
                </a:lnTo>
                <a:lnTo>
                  <a:pt x="131" y="1140"/>
                </a:lnTo>
                <a:lnTo>
                  <a:pt x="119" y="1129"/>
                </a:lnTo>
                <a:lnTo>
                  <a:pt x="95" y="1117"/>
                </a:lnTo>
                <a:lnTo>
                  <a:pt x="54" y="1117"/>
                </a:lnTo>
                <a:lnTo>
                  <a:pt x="48" y="1111"/>
                </a:lnTo>
                <a:lnTo>
                  <a:pt x="48" y="1105"/>
                </a:lnTo>
                <a:lnTo>
                  <a:pt x="54" y="1099"/>
                </a:lnTo>
                <a:lnTo>
                  <a:pt x="149" y="1099"/>
                </a:lnTo>
                <a:lnTo>
                  <a:pt x="155" y="1105"/>
                </a:lnTo>
                <a:lnTo>
                  <a:pt x="155" y="1111"/>
                </a:lnTo>
                <a:lnTo>
                  <a:pt x="149" y="1117"/>
                </a:lnTo>
                <a:lnTo>
                  <a:pt x="131" y="1117"/>
                </a:lnTo>
                <a:lnTo>
                  <a:pt x="149" y="1135"/>
                </a:lnTo>
                <a:lnTo>
                  <a:pt x="155" y="1152"/>
                </a:lnTo>
                <a:lnTo>
                  <a:pt x="149" y="1164"/>
                </a:lnTo>
                <a:lnTo>
                  <a:pt x="125" y="1176"/>
                </a:lnTo>
                <a:lnTo>
                  <a:pt x="78" y="1176"/>
                </a:lnTo>
                <a:lnTo>
                  <a:pt x="66" y="1182"/>
                </a:lnTo>
                <a:lnTo>
                  <a:pt x="54" y="1182"/>
                </a:lnTo>
                <a:lnTo>
                  <a:pt x="48" y="1176"/>
                </a:lnTo>
                <a:lnTo>
                  <a:pt x="48" y="1170"/>
                </a:lnTo>
                <a:close/>
                <a:moveTo>
                  <a:pt x="48" y="1170"/>
                </a:moveTo>
                <a:lnTo>
                  <a:pt x="48" y="1170"/>
                </a:lnTo>
                <a:close/>
                <a:moveTo>
                  <a:pt x="137" y="1283"/>
                </a:moveTo>
                <a:lnTo>
                  <a:pt x="84" y="1283"/>
                </a:lnTo>
                <a:lnTo>
                  <a:pt x="60" y="1289"/>
                </a:lnTo>
                <a:lnTo>
                  <a:pt x="54" y="1289"/>
                </a:lnTo>
                <a:lnTo>
                  <a:pt x="54" y="1277"/>
                </a:lnTo>
                <a:lnTo>
                  <a:pt x="60" y="1271"/>
                </a:lnTo>
                <a:lnTo>
                  <a:pt x="54" y="1265"/>
                </a:lnTo>
                <a:lnTo>
                  <a:pt x="54" y="1253"/>
                </a:lnTo>
                <a:lnTo>
                  <a:pt x="48" y="1247"/>
                </a:lnTo>
                <a:lnTo>
                  <a:pt x="48" y="1241"/>
                </a:lnTo>
                <a:lnTo>
                  <a:pt x="54" y="1224"/>
                </a:lnTo>
                <a:lnTo>
                  <a:pt x="60" y="1212"/>
                </a:lnTo>
                <a:lnTo>
                  <a:pt x="78" y="1200"/>
                </a:lnTo>
                <a:lnTo>
                  <a:pt x="95" y="1194"/>
                </a:lnTo>
                <a:lnTo>
                  <a:pt x="119" y="1200"/>
                </a:lnTo>
                <a:lnTo>
                  <a:pt x="137" y="1212"/>
                </a:lnTo>
                <a:lnTo>
                  <a:pt x="143" y="1224"/>
                </a:lnTo>
                <a:lnTo>
                  <a:pt x="149" y="1241"/>
                </a:lnTo>
                <a:lnTo>
                  <a:pt x="149" y="1259"/>
                </a:lnTo>
                <a:lnTo>
                  <a:pt x="143" y="1271"/>
                </a:lnTo>
                <a:lnTo>
                  <a:pt x="190" y="1271"/>
                </a:lnTo>
                <a:lnTo>
                  <a:pt x="202" y="1283"/>
                </a:lnTo>
                <a:lnTo>
                  <a:pt x="196" y="1289"/>
                </a:lnTo>
                <a:lnTo>
                  <a:pt x="155" y="1289"/>
                </a:lnTo>
                <a:lnTo>
                  <a:pt x="137" y="1283"/>
                </a:lnTo>
                <a:close/>
                <a:moveTo>
                  <a:pt x="137" y="1283"/>
                </a:moveTo>
                <a:lnTo>
                  <a:pt x="137" y="1283"/>
                </a:lnTo>
                <a:close/>
                <a:moveTo>
                  <a:pt x="131" y="1241"/>
                </a:moveTo>
                <a:lnTo>
                  <a:pt x="131" y="1230"/>
                </a:lnTo>
                <a:lnTo>
                  <a:pt x="125" y="1218"/>
                </a:lnTo>
                <a:lnTo>
                  <a:pt x="113" y="1218"/>
                </a:lnTo>
                <a:lnTo>
                  <a:pt x="95" y="1212"/>
                </a:lnTo>
                <a:lnTo>
                  <a:pt x="89" y="1218"/>
                </a:lnTo>
                <a:lnTo>
                  <a:pt x="78" y="1224"/>
                </a:lnTo>
                <a:lnTo>
                  <a:pt x="72" y="1235"/>
                </a:lnTo>
                <a:lnTo>
                  <a:pt x="66" y="1241"/>
                </a:lnTo>
                <a:lnTo>
                  <a:pt x="66" y="1247"/>
                </a:lnTo>
                <a:lnTo>
                  <a:pt x="72" y="1253"/>
                </a:lnTo>
                <a:lnTo>
                  <a:pt x="72" y="1259"/>
                </a:lnTo>
                <a:lnTo>
                  <a:pt x="78" y="1265"/>
                </a:lnTo>
                <a:lnTo>
                  <a:pt x="125" y="1265"/>
                </a:lnTo>
                <a:lnTo>
                  <a:pt x="131" y="1259"/>
                </a:lnTo>
                <a:lnTo>
                  <a:pt x="131" y="1241"/>
                </a:lnTo>
                <a:close/>
                <a:moveTo>
                  <a:pt x="131" y="1241"/>
                </a:moveTo>
                <a:lnTo>
                  <a:pt x="131" y="1241"/>
                </a:lnTo>
                <a:close/>
                <a:moveTo>
                  <a:pt x="48" y="1348"/>
                </a:moveTo>
                <a:lnTo>
                  <a:pt x="54" y="1336"/>
                </a:lnTo>
                <a:lnTo>
                  <a:pt x="60" y="1319"/>
                </a:lnTo>
                <a:lnTo>
                  <a:pt x="72" y="1313"/>
                </a:lnTo>
                <a:lnTo>
                  <a:pt x="95" y="1307"/>
                </a:lnTo>
                <a:lnTo>
                  <a:pt x="131" y="1319"/>
                </a:lnTo>
                <a:lnTo>
                  <a:pt x="143" y="1330"/>
                </a:lnTo>
                <a:lnTo>
                  <a:pt x="149" y="1354"/>
                </a:lnTo>
                <a:lnTo>
                  <a:pt x="143" y="1372"/>
                </a:lnTo>
                <a:lnTo>
                  <a:pt x="131" y="1384"/>
                </a:lnTo>
                <a:lnTo>
                  <a:pt x="119" y="1390"/>
                </a:lnTo>
                <a:lnTo>
                  <a:pt x="101" y="1390"/>
                </a:lnTo>
                <a:lnTo>
                  <a:pt x="78" y="1384"/>
                </a:lnTo>
                <a:lnTo>
                  <a:pt x="66" y="1378"/>
                </a:lnTo>
                <a:lnTo>
                  <a:pt x="54" y="1366"/>
                </a:lnTo>
                <a:lnTo>
                  <a:pt x="48" y="1348"/>
                </a:lnTo>
                <a:close/>
                <a:moveTo>
                  <a:pt x="48" y="1348"/>
                </a:moveTo>
                <a:lnTo>
                  <a:pt x="48" y="1348"/>
                </a:lnTo>
                <a:close/>
                <a:moveTo>
                  <a:pt x="131" y="1354"/>
                </a:moveTo>
                <a:lnTo>
                  <a:pt x="119" y="1330"/>
                </a:lnTo>
                <a:lnTo>
                  <a:pt x="107" y="1325"/>
                </a:lnTo>
                <a:lnTo>
                  <a:pt x="95" y="1325"/>
                </a:lnTo>
                <a:lnTo>
                  <a:pt x="84" y="1330"/>
                </a:lnTo>
                <a:lnTo>
                  <a:pt x="72" y="1330"/>
                </a:lnTo>
                <a:lnTo>
                  <a:pt x="66" y="1342"/>
                </a:lnTo>
                <a:lnTo>
                  <a:pt x="66" y="1360"/>
                </a:lnTo>
                <a:lnTo>
                  <a:pt x="72" y="1366"/>
                </a:lnTo>
                <a:lnTo>
                  <a:pt x="84" y="1372"/>
                </a:lnTo>
                <a:lnTo>
                  <a:pt x="113" y="1372"/>
                </a:lnTo>
                <a:lnTo>
                  <a:pt x="125" y="1366"/>
                </a:lnTo>
                <a:lnTo>
                  <a:pt x="131" y="1360"/>
                </a:lnTo>
                <a:lnTo>
                  <a:pt x="131" y="1354"/>
                </a:lnTo>
                <a:close/>
                <a:moveTo>
                  <a:pt x="131" y="1354"/>
                </a:moveTo>
                <a:lnTo>
                  <a:pt x="131" y="1354"/>
                </a:lnTo>
                <a:close/>
                <a:moveTo>
                  <a:pt x="137" y="1520"/>
                </a:moveTo>
                <a:lnTo>
                  <a:pt x="107" y="1515"/>
                </a:lnTo>
                <a:lnTo>
                  <a:pt x="66" y="1503"/>
                </a:lnTo>
                <a:lnTo>
                  <a:pt x="54" y="1491"/>
                </a:lnTo>
                <a:lnTo>
                  <a:pt x="48" y="1491"/>
                </a:lnTo>
                <a:lnTo>
                  <a:pt x="48" y="1485"/>
                </a:lnTo>
                <a:lnTo>
                  <a:pt x="54" y="1473"/>
                </a:lnTo>
                <a:lnTo>
                  <a:pt x="72" y="1467"/>
                </a:lnTo>
                <a:lnTo>
                  <a:pt x="84" y="1467"/>
                </a:lnTo>
                <a:lnTo>
                  <a:pt x="95" y="1461"/>
                </a:lnTo>
                <a:lnTo>
                  <a:pt x="113" y="1461"/>
                </a:lnTo>
                <a:lnTo>
                  <a:pt x="95" y="1449"/>
                </a:lnTo>
                <a:lnTo>
                  <a:pt x="60" y="1437"/>
                </a:lnTo>
                <a:lnTo>
                  <a:pt x="54" y="1437"/>
                </a:lnTo>
                <a:lnTo>
                  <a:pt x="54" y="1431"/>
                </a:lnTo>
                <a:lnTo>
                  <a:pt x="48" y="1431"/>
                </a:lnTo>
                <a:lnTo>
                  <a:pt x="48" y="1425"/>
                </a:lnTo>
                <a:lnTo>
                  <a:pt x="54" y="1420"/>
                </a:lnTo>
                <a:lnTo>
                  <a:pt x="89" y="1408"/>
                </a:lnTo>
                <a:lnTo>
                  <a:pt x="113" y="1408"/>
                </a:lnTo>
                <a:lnTo>
                  <a:pt x="125" y="1402"/>
                </a:lnTo>
                <a:lnTo>
                  <a:pt x="149" y="1402"/>
                </a:lnTo>
                <a:lnTo>
                  <a:pt x="149" y="1420"/>
                </a:lnTo>
                <a:lnTo>
                  <a:pt x="131" y="1420"/>
                </a:lnTo>
                <a:lnTo>
                  <a:pt x="113" y="1425"/>
                </a:lnTo>
                <a:lnTo>
                  <a:pt x="72" y="1431"/>
                </a:lnTo>
                <a:lnTo>
                  <a:pt x="101" y="1443"/>
                </a:lnTo>
                <a:lnTo>
                  <a:pt x="137" y="1449"/>
                </a:lnTo>
                <a:lnTo>
                  <a:pt x="149" y="1455"/>
                </a:lnTo>
                <a:lnTo>
                  <a:pt x="149" y="1461"/>
                </a:lnTo>
                <a:lnTo>
                  <a:pt x="137" y="1473"/>
                </a:lnTo>
                <a:lnTo>
                  <a:pt x="125" y="1473"/>
                </a:lnTo>
                <a:lnTo>
                  <a:pt x="107" y="1479"/>
                </a:lnTo>
                <a:lnTo>
                  <a:pt x="84" y="1479"/>
                </a:lnTo>
                <a:lnTo>
                  <a:pt x="66" y="1485"/>
                </a:lnTo>
                <a:lnTo>
                  <a:pt x="95" y="1491"/>
                </a:lnTo>
                <a:lnTo>
                  <a:pt x="143" y="1503"/>
                </a:lnTo>
                <a:lnTo>
                  <a:pt x="149" y="1503"/>
                </a:lnTo>
                <a:lnTo>
                  <a:pt x="149" y="1515"/>
                </a:lnTo>
                <a:lnTo>
                  <a:pt x="143" y="1520"/>
                </a:lnTo>
                <a:lnTo>
                  <a:pt x="137" y="1520"/>
                </a:lnTo>
                <a:close/>
                <a:moveTo>
                  <a:pt x="137" y="1520"/>
                </a:moveTo>
                <a:lnTo>
                  <a:pt x="137" y="1520"/>
                </a:lnTo>
                <a:close/>
                <a:moveTo>
                  <a:pt x="84" y="1568"/>
                </a:moveTo>
                <a:lnTo>
                  <a:pt x="84" y="1556"/>
                </a:lnTo>
                <a:lnTo>
                  <a:pt x="89" y="1556"/>
                </a:lnTo>
                <a:lnTo>
                  <a:pt x="101" y="1562"/>
                </a:lnTo>
                <a:lnTo>
                  <a:pt x="107" y="1568"/>
                </a:lnTo>
                <a:lnTo>
                  <a:pt x="125" y="1592"/>
                </a:lnTo>
                <a:lnTo>
                  <a:pt x="137" y="1598"/>
                </a:lnTo>
                <a:lnTo>
                  <a:pt x="143" y="1604"/>
                </a:lnTo>
                <a:lnTo>
                  <a:pt x="155" y="1598"/>
                </a:lnTo>
                <a:lnTo>
                  <a:pt x="167" y="1586"/>
                </a:lnTo>
                <a:lnTo>
                  <a:pt x="173" y="1574"/>
                </a:lnTo>
                <a:lnTo>
                  <a:pt x="173" y="1568"/>
                </a:lnTo>
                <a:lnTo>
                  <a:pt x="167" y="1556"/>
                </a:lnTo>
                <a:lnTo>
                  <a:pt x="161" y="1550"/>
                </a:lnTo>
                <a:lnTo>
                  <a:pt x="161" y="1538"/>
                </a:lnTo>
                <a:lnTo>
                  <a:pt x="179" y="1538"/>
                </a:lnTo>
                <a:lnTo>
                  <a:pt x="190" y="1562"/>
                </a:lnTo>
                <a:lnTo>
                  <a:pt x="190" y="1574"/>
                </a:lnTo>
                <a:lnTo>
                  <a:pt x="184" y="1592"/>
                </a:lnTo>
                <a:lnTo>
                  <a:pt x="179" y="1604"/>
                </a:lnTo>
                <a:lnTo>
                  <a:pt x="161" y="1615"/>
                </a:lnTo>
                <a:lnTo>
                  <a:pt x="143" y="1621"/>
                </a:lnTo>
                <a:lnTo>
                  <a:pt x="119" y="1610"/>
                </a:lnTo>
                <a:lnTo>
                  <a:pt x="101" y="1592"/>
                </a:lnTo>
                <a:lnTo>
                  <a:pt x="95" y="1580"/>
                </a:lnTo>
                <a:lnTo>
                  <a:pt x="84" y="1574"/>
                </a:lnTo>
                <a:lnTo>
                  <a:pt x="84" y="1568"/>
                </a:lnTo>
                <a:close/>
                <a:moveTo>
                  <a:pt x="84" y="1568"/>
                </a:moveTo>
                <a:lnTo>
                  <a:pt x="84" y="1568"/>
                </a:lnTo>
                <a:close/>
                <a:moveTo>
                  <a:pt x="48" y="1562"/>
                </a:moveTo>
                <a:lnTo>
                  <a:pt x="48" y="1550"/>
                </a:lnTo>
                <a:lnTo>
                  <a:pt x="66" y="1550"/>
                </a:lnTo>
                <a:lnTo>
                  <a:pt x="72" y="1556"/>
                </a:lnTo>
                <a:lnTo>
                  <a:pt x="72" y="1562"/>
                </a:lnTo>
                <a:lnTo>
                  <a:pt x="66" y="1568"/>
                </a:lnTo>
                <a:lnTo>
                  <a:pt x="48" y="1568"/>
                </a:lnTo>
                <a:lnTo>
                  <a:pt x="48" y="1562"/>
                </a:lnTo>
                <a:close/>
                <a:moveTo>
                  <a:pt x="48" y="1562"/>
                </a:moveTo>
                <a:lnTo>
                  <a:pt x="48" y="1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0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3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8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4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0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6" dur="1" fill="hold"/>
                                  <p:tgtEl>
                                    <p:spTgt spid="5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2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9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5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 = 24 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Object 2"/>
          <p:cNvGraphicFramePr/>
          <p:nvPr/>
        </p:nvGraphicFramePr>
        <p:xfrm>
          <a:off x="2362320" y="-1752480"/>
          <a:ext cx="10078920" cy="140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-1752480"/>
                    <a:ext cx="10078920" cy="140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0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8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3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9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5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1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5" dur="1" fill="hold"/>
                                  <p:tgtEl>
                                    <p:spTgt spid="5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4089240" y="1308240"/>
            <a:ext cx="1143000" cy="195552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076640" y="3284640"/>
            <a:ext cx="1165320" cy="10778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63880" y="1268280"/>
            <a:ext cx="2009520" cy="2009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 rot="19789800">
            <a:off x="4511160" y="536040"/>
            <a:ext cx="2289240" cy="23274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851040" y="4317840"/>
            <a:ext cx="2288880" cy="232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3238560" y="552456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664080" y="4633920"/>
            <a:ext cx="2009520" cy="2009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3238560" y="567684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235560" y="5545080"/>
            <a:ext cx="1165320" cy="10778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5816520" y="607068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5976720" y="5907240"/>
            <a:ext cx="7560" cy="330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651120" y="205092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863800" y="7556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324320" y="526428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425840" y="319392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676680" y="34862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4603680" y="18986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6013440" y="25462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6496200" y="57722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1657440" y="506088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1371600" y="228600"/>
            <a:ext cx="1701720" cy="584280"/>
          </a:xfrm>
          <a:prstGeom prst="wedgeRoundRectCallout">
            <a:avLst>
              <a:gd name="adj1" fmla="val -68750"/>
              <a:gd name="adj2" fmla="val 54074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t’s look at it this way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19320" y="7174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ittle squ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2209680" y="4038120"/>
            <a:ext cx="5029200" cy="2210400"/>
            <a:chOff x="2209680" y="4038120"/>
            <a:chExt cx="5029200" cy="2210400"/>
          </a:xfrm>
        </p:grpSpPr>
        <p:sp>
          <p:nvSpPr>
            <p:cNvPr id="132" name="Line 4"/>
            <p:cNvSpPr/>
            <p:nvPr/>
          </p:nvSpPr>
          <p:spPr>
            <a:xfrm>
              <a:off x="2209680" y="4038480"/>
              <a:ext cx="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2209680" y="624852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 flipH="1" flipV="1">
              <a:off x="2209680" y="4038120"/>
              <a:ext cx="502920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Line 7"/>
          <p:cNvSpPr/>
          <p:nvPr/>
        </p:nvSpPr>
        <p:spPr>
          <a:xfrm>
            <a:off x="2590920" y="5867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2209680" y="5867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514600" y="5334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0" lang="en-US" sz="3600" spc="-1" strike="noStrike" baseline="40000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57200" y="556272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295280" y="7034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                          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n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219320" y="1525680"/>
            <a:ext cx="6858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gle tells you it is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219320" y="23623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right ang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858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ythagorus realized that if you have a right tri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16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44" name="Line 8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you square the lengths of the two sides that make up the right 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304920" y="403848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4"/>
          <p:cNvSpPr/>
          <p:nvPr/>
        </p:nvSpPr>
        <p:spPr>
          <a:xfrm rot="16200000">
            <a:off x="2362320" y="586692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6172200" y="4584600"/>
                <a:ext cx="685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4800600" y="457200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7" name="Group 20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58" name="Line 21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5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6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add them together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8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68" name="Line 19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2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24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5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" name="Object 28"/>
              <p:cNvSpPr txBox="1"/>
              <p:nvPr/>
            </p:nvSpPr>
            <p:spPr>
              <a:xfrm>
                <a:off x="6172200" y="4578480"/>
                <a:ext cx="6858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9"/>
              <p:cNvSpPr txBox="1"/>
              <p:nvPr/>
            </p:nvSpPr>
            <p:spPr>
              <a:xfrm>
                <a:off x="4789440" y="457848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0"/>
              <p:cNvSpPr txBox="1"/>
              <p:nvPr/>
            </p:nvSpPr>
            <p:spPr>
              <a:xfrm>
                <a:off x="4789440" y="457848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5:47Z</dcterms:created>
  <dc:creator>Bob Greer</dc:creator>
  <dc:description/>
  <dc:language>en-US</dc:language>
  <cp:lastModifiedBy>khinda</cp:lastModifiedBy>
  <dcterms:modified xsi:type="dcterms:W3CDTF">2013-08-16T16:05:20Z</dcterms:modified>
  <cp:revision>17</cp:revision>
  <dc:subject/>
  <dc:title>PowerPoint Presentation</dc:title>
</cp:coreProperties>
</file>